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980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768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3AA-5D25-440B-B964-08E5E94B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EE7-AC5C-4932-A951-8440CEF6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3440" y="4422600"/>
            <a:ext cx="561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9800" y="884556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63D-CA8A-43B0-907E-0FA6BBF7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D91-1BCC-40EC-8150-28725D2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707-B29F-4D8B-9507-3B93AAB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BEC-EA0A-4078-AD44-1978A89A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6D8-5CA7-415B-BD03-4848A8A3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353-7888-4801-8697-840BF7E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3F0-029B-459F-8812-EC7967C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AC7-DF88-4A43-9868-5C62822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92E-E57C-42A5-9E37-1E7EE8F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946-3B02-46F6-8AB4-06471AA9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44C-B483-4FEE-8924-FFC67A1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1F6-0F3A-4370-BD16-77E05DF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93A-0745-490F-8DCC-AEAD3E9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D8B5-05BD-4A43-BFB5-BFF4F57FD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www.teachersource.com/Images/Product/md/spc100.jpg"/>
          <p:cNvPicPr/>
          <p:nvPr/>
        </p:nvPicPr>
        <p:blipFill>
          <a:blip r:embed="rId1"/>
          <a:stretch/>
        </p:blipFill>
        <p:spPr>
          <a:xfrm>
            <a:off x="306360" y="2266920"/>
            <a:ext cx="6703920" cy="413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and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Co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197_intensity"/>
          <p:cNvPicPr/>
          <p:nvPr/>
        </p:nvPicPr>
        <p:blipFill>
          <a:blip r:embed="rId1"/>
          <a:stretch/>
        </p:blipFill>
        <p:spPr>
          <a:xfrm>
            <a:off x="1523880" y="838080"/>
            <a:ext cx="576756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ng’s Double Sl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erence Pat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oubleslit"/>
          <p:cNvPicPr/>
          <p:nvPr/>
        </p:nvPicPr>
        <p:blipFill>
          <a:blip r:embed="rId1"/>
          <a:stretch/>
        </p:blipFill>
        <p:spPr>
          <a:xfrm>
            <a:off x="1600200" y="228600"/>
            <a:ext cx="572940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58040" y="6346800"/>
            <a:ext cx="551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galileo.phys.virginia.edu/classes/USEM/SciImg/home_files/introduction_files/doublesl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erence of Waves Fr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“Ripple Tank” http://www3.interscience.wiley.com:8100/legacy/college/halliday/0471320005/simulations6e/index.htm?newwindow=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ng’s Double Slit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galileo.phys.virginia.edu/classes/109N/more_stuff/flashlets/youngexpt4.h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911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r Constructive Interfere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ves must arrive to the point of study in ph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ir path difference must be integral multiples of the wave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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= n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=0,1,2,3,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nk 5"/>
          <p:cNvSpPr/>
          <p:nvPr/>
        </p:nvSpPr>
        <p:spPr>
          <a:xfrm>
            <a:off x="5638680" y="1219320"/>
            <a:ext cx="1725840" cy="769680"/>
          </a:xfrm>
          <a:custGeom>
            <a:avLst/>
            <a:gdLst/>
            <a:ahLst/>
            <a:rect l="l" t="t" r="r" b="b"/>
            <a:pathLst>
              <a:path w="4793" h="2140">
                <a:moveTo>
                  <a:pt x="14971" y="6980"/>
                </a:moveTo>
                <a:cubicBezTo>
                  <a:pt x="14987" y="6889"/>
                  <a:pt x="15001" y="6797"/>
                  <a:pt x="15027" y="6707"/>
                </a:cubicBezTo>
                <a:cubicBezTo>
                  <a:pt x="15084" y="6510"/>
                  <a:pt x="15199" y="6248"/>
                  <a:pt x="15342" y="6101"/>
                </a:cubicBezTo>
                <a:cubicBezTo>
                  <a:pt x="15467" y="5973"/>
                  <a:pt x="15662" y="5906"/>
                  <a:pt x="15833" y="5883"/>
                </a:cubicBezTo>
                <a:cubicBezTo>
                  <a:pt x="15900" y="5874"/>
                  <a:pt x="15967" y="5873"/>
                  <a:pt x="16034" y="5879"/>
                </a:cubicBezTo>
                <a:cubicBezTo>
                  <a:pt x="16331" y="5904"/>
                  <a:pt x="16546" y="6057"/>
                  <a:pt x="16742" y="6267"/>
                </a:cubicBezTo>
                <a:cubicBezTo>
                  <a:pt x="16827" y="6358"/>
                  <a:pt x="16912" y="6452"/>
                  <a:pt x="16981" y="6557"/>
                </a:cubicBezTo>
                <a:cubicBezTo>
                  <a:pt x="17035" y="6639"/>
                  <a:pt x="17075" y="6729"/>
                  <a:pt x="17113" y="6818"/>
                </a:cubicBezTo>
                <a:cubicBezTo>
                  <a:pt x="17160" y="6928"/>
                  <a:pt x="17206" y="7039"/>
                  <a:pt x="17250" y="7150"/>
                </a:cubicBezTo>
                <a:cubicBezTo>
                  <a:pt x="17268" y="7195"/>
                  <a:pt x="17286" y="7239"/>
                  <a:pt x="17305" y="7283"/>
                </a:cubicBezTo>
                <a:cubicBezTo>
                  <a:pt x="17322" y="7323"/>
                  <a:pt x="17338" y="7363"/>
                  <a:pt x="17356" y="7402"/>
                </a:cubicBezTo>
                <a:cubicBezTo>
                  <a:pt x="17446" y="7592"/>
                  <a:pt x="17560" y="7764"/>
                  <a:pt x="17736" y="7884"/>
                </a:cubicBezTo>
                <a:cubicBezTo>
                  <a:pt x="17760" y="7901"/>
                  <a:pt x="17786" y="7918"/>
                  <a:pt x="17813" y="7931"/>
                </a:cubicBezTo>
                <a:cubicBezTo>
                  <a:pt x="17904" y="7976"/>
                  <a:pt x="18013" y="8010"/>
                  <a:pt x="18116" y="8013"/>
                </a:cubicBezTo>
                <a:cubicBezTo>
                  <a:pt x="18385" y="8022"/>
                  <a:pt x="18619" y="7905"/>
                  <a:pt x="18850" y="7786"/>
                </a:cubicBezTo>
                <a:cubicBezTo>
                  <a:pt x="19013" y="7702"/>
                  <a:pt x="19174" y="7612"/>
                  <a:pt x="19306" y="7483"/>
                </a:cubicBezTo>
                <a:cubicBezTo>
                  <a:pt x="19344" y="7446"/>
                  <a:pt x="19378" y="7403"/>
                  <a:pt x="19413" y="7364"/>
                </a:cubicBezTo>
                <a:cubicBezTo>
                  <a:pt x="19471" y="7298"/>
                  <a:pt x="19522" y="7235"/>
                  <a:pt x="19571" y="7163"/>
                </a:cubicBezTo>
                <a:cubicBezTo>
                  <a:pt x="19638" y="7065"/>
                  <a:pt x="19689" y="6953"/>
                  <a:pt x="19733" y="6847"/>
                </a:cubicBezTo>
                <a:cubicBezTo>
                  <a:pt x="19738" y="6834"/>
                  <a:pt x="19738" y="6814"/>
                  <a:pt x="19742" y="6805"/>
                </a:cubicBezTo>
                <a:cubicBezTo>
                  <a:pt x="19747" y="6793"/>
                  <a:pt x="19749" y="6787"/>
                  <a:pt x="19754" y="6775"/>
                </a:cubicBezTo>
                <a:cubicBezTo>
                  <a:pt x="19757" y="6769"/>
                  <a:pt x="19760" y="6777"/>
                  <a:pt x="19763" y="6771"/>
                </a:cubicBezTo>
                <a:cubicBezTo>
                  <a:pt x="19765" y="6765"/>
                  <a:pt x="19761" y="6777"/>
                  <a:pt x="19763" y="6771"/>
                </a:cubicBezTo>
                <a:cubicBezTo>
                  <a:pt x="19763" y="6766"/>
                  <a:pt x="19763" y="6764"/>
                  <a:pt x="19763" y="6771"/>
                </a:cubicBezTo>
                <a:cubicBezTo>
                  <a:pt x="19759" y="6776"/>
                  <a:pt x="19762" y="6761"/>
                  <a:pt x="19759" y="6766"/>
                </a:cubicBezTo>
                <a:cubicBezTo>
                  <a:pt x="19755" y="6772"/>
                  <a:pt x="19763" y="6773"/>
                  <a:pt x="19759" y="6779"/>
                </a:cubicBezTo>
                <a:cubicBezTo>
                  <a:pt x="19758" y="6781"/>
                  <a:pt x="19739" y="6798"/>
                  <a:pt x="19737" y="6801"/>
                </a:cubicBezTo>
                <a:cubicBezTo>
                  <a:pt x="19737" y="6804"/>
                  <a:pt x="19737" y="6806"/>
                  <a:pt x="19737" y="6809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nk 6"/>
          <p:cNvSpPr/>
          <p:nvPr/>
        </p:nvSpPr>
        <p:spPr>
          <a:xfrm>
            <a:off x="4572000" y="990720"/>
            <a:ext cx="1073160" cy="806400"/>
          </a:xfrm>
          <a:custGeom>
            <a:avLst/>
            <a:gdLst/>
            <a:ahLst/>
            <a:rect l="l" t="t" r="r" b="b"/>
            <a:pathLst>
              <a:path w="2980" h="2237">
                <a:moveTo>
                  <a:pt x="14997" y="6958"/>
                </a:moveTo>
                <a:cubicBezTo>
                  <a:pt x="14986" y="6973"/>
                  <a:pt x="14983" y="6991"/>
                  <a:pt x="14971" y="7005"/>
                </a:cubicBezTo>
                <a:cubicBezTo>
                  <a:pt x="14954" y="7026"/>
                  <a:pt x="14940" y="7042"/>
                  <a:pt x="14920" y="7061"/>
                </a:cubicBezTo>
                <a:cubicBezTo>
                  <a:pt x="14898" y="7082"/>
                  <a:pt x="14877" y="7100"/>
                  <a:pt x="14852" y="7116"/>
                </a:cubicBezTo>
                <a:cubicBezTo>
                  <a:pt x="14792" y="7155"/>
                  <a:pt x="14731" y="7171"/>
                  <a:pt x="14664" y="7193"/>
                </a:cubicBezTo>
                <a:cubicBezTo>
                  <a:pt x="14422" y="7271"/>
                  <a:pt x="14202" y="7325"/>
                  <a:pt x="13951" y="7249"/>
                </a:cubicBezTo>
                <a:cubicBezTo>
                  <a:pt x="13780" y="7197"/>
                  <a:pt x="13606" y="7095"/>
                  <a:pt x="13486" y="6963"/>
                </a:cubicBezTo>
                <a:cubicBezTo>
                  <a:pt x="13392" y="6860"/>
                  <a:pt x="13319" y="6731"/>
                  <a:pt x="13256" y="6608"/>
                </a:cubicBezTo>
                <a:cubicBezTo>
                  <a:pt x="13207" y="6511"/>
                  <a:pt x="13173" y="6413"/>
                  <a:pt x="13132" y="6314"/>
                </a:cubicBezTo>
                <a:cubicBezTo>
                  <a:pt x="13109" y="6258"/>
                  <a:pt x="13084" y="6203"/>
                  <a:pt x="13059" y="6148"/>
                </a:cubicBezTo>
                <a:cubicBezTo>
                  <a:pt x="13029" y="6080"/>
                  <a:pt x="12994" y="6014"/>
                  <a:pt x="12961" y="5947"/>
                </a:cubicBezTo>
                <a:cubicBezTo>
                  <a:pt x="12926" y="5877"/>
                  <a:pt x="12891" y="5808"/>
                  <a:pt x="12855" y="5738"/>
                </a:cubicBezTo>
                <a:cubicBezTo>
                  <a:pt x="12826" y="5681"/>
                  <a:pt x="12800" y="5625"/>
                  <a:pt x="12765" y="5571"/>
                </a:cubicBezTo>
                <a:cubicBezTo>
                  <a:pt x="12612" y="5338"/>
                  <a:pt x="12417" y="5134"/>
                  <a:pt x="12138" y="5072"/>
                </a:cubicBezTo>
                <a:cubicBezTo>
                  <a:pt x="12094" y="5062"/>
                  <a:pt x="12037" y="5072"/>
                  <a:pt x="12018" y="5072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Ink 8"/>
          <p:cNvSpPr/>
          <p:nvPr/>
        </p:nvSpPr>
        <p:spPr>
          <a:xfrm>
            <a:off x="5181480" y="1600200"/>
            <a:ext cx="2210040" cy="1900080"/>
          </a:xfrm>
          <a:custGeom>
            <a:avLst/>
            <a:gdLst/>
            <a:ahLst/>
            <a:rect l="l" t="t" r="r" b="b"/>
            <a:pathLst>
              <a:path w="6773" h="5280">
                <a:moveTo>
                  <a:pt x="16004" y="10270"/>
                </a:moveTo>
                <a:cubicBezTo>
                  <a:pt x="16024" y="10040"/>
                  <a:pt x="16056" y="9834"/>
                  <a:pt x="16162" y="9626"/>
                </a:cubicBezTo>
                <a:cubicBezTo>
                  <a:pt x="16277" y="9400"/>
                  <a:pt x="16457" y="9236"/>
                  <a:pt x="16695" y="9152"/>
                </a:cubicBezTo>
                <a:cubicBezTo>
                  <a:pt x="16880" y="9087"/>
                  <a:pt x="17070" y="9077"/>
                  <a:pt x="17254" y="9139"/>
                </a:cubicBezTo>
                <a:cubicBezTo>
                  <a:pt x="17316" y="9160"/>
                  <a:pt x="17377" y="9192"/>
                  <a:pt x="17437" y="9216"/>
                </a:cubicBezTo>
                <a:cubicBezTo>
                  <a:pt x="17645" y="9300"/>
                  <a:pt x="17835" y="9385"/>
                  <a:pt x="18065" y="9382"/>
                </a:cubicBezTo>
                <a:cubicBezTo>
                  <a:pt x="18192" y="9380"/>
                  <a:pt x="18295" y="9358"/>
                  <a:pt x="18415" y="9314"/>
                </a:cubicBezTo>
                <a:cubicBezTo>
                  <a:pt x="18555" y="9262"/>
                  <a:pt x="18693" y="9206"/>
                  <a:pt x="18833" y="9156"/>
                </a:cubicBezTo>
                <a:cubicBezTo>
                  <a:pt x="19012" y="9092"/>
                  <a:pt x="19127" y="9001"/>
                  <a:pt x="19234" y="8845"/>
                </a:cubicBezTo>
                <a:cubicBezTo>
                  <a:pt x="19273" y="8788"/>
                  <a:pt x="19303" y="8731"/>
                  <a:pt x="19336" y="8670"/>
                </a:cubicBezTo>
                <a:cubicBezTo>
                  <a:pt x="19439" y="8480"/>
                  <a:pt x="19517" y="8325"/>
                  <a:pt x="19558" y="8111"/>
                </a:cubicBezTo>
                <a:cubicBezTo>
                  <a:pt x="19603" y="7879"/>
                  <a:pt x="19596" y="7665"/>
                  <a:pt x="19601" y="7432"/>
                </a:cubicBezTo>
                <a:cubicBezTo>
                  <a:pt x="19603" y="7359"/>
                  <a:pt x="19621" y="7283"/>
                  <a:pt x="19639" y="7227"/>
                </a:cubicBezTo>
                <a:cubicBezTo>
                  <a:pt x="19640" y="7222"/>
                  <a:pt x="19647" y="7224"/>
                  <a:pt x="19648" y="7219"/>
                </a:cubicBezTo>
                <a:cubicBezTo>
                  <a:pt x="19647" y="7226"/>
                  <a:pt x="19657" y="7228"/>
                  <a:pt x="19656" y="7236"/>
                </a:cubicBezTo>
                <a:cubicBezTo>
                  <a:pt x="19655" y="7250"/>
                  <a:pt x="19665" y="7262"/>
                  <a:pt x="19661" y="7278"/>
                </a:cubicBezTo>
                <a:cubicBezTo>
                  <a:pt x="19650" y="7323"/>
                  <a:pt x="19636" y="7422"/>
                  <a:pt x="19567" y="7381"/>
                </a:cubicBezTo>
                <a:cubicBezTo>
                  <a:pt x="19481" y="7330"/>
                  <a:pt x="19560" y="7106"/>
                  <a:pt x="19656" y="7116"/>
                </a:cubicBezTo>
                <a:cubicBezTo>
                  <a:pt x="19718" y="7123"/>
                  <a:pt x="19730" y="7167"/>
                  <a:pt x="19720" y="7223"/>
                </a:cubicBezTo>
                <a:cubicBezTo>
                  <a:pt x="19709" y="7284"/>
                  <a:pt x="19587" y="7396"/>
                  <a:pt x="19537" y="7313"/>
                </a:cubicBezTo>
                <a:cubicBezTo>
                  <a:pt x="19501" y="7253"/>
                  <a:pt x="19539" y="7043"/>
                  <a:pt x="19626" y="7039"/>
                </a:cubicBezTo>
                <a:cubicBezTo>
                  <a:pt x="19718" y="7034"/>
                  <a:pt x="19777" y="7220"/>
                  <a:pt x="19690" y="7266"/>
                </a:cubicBezTo>
                <a:cubicBezTo>
                  <a:pt x="19564" y="7333"/>
                  <a:pt x="19529" y="7165"/>
                  <a:pt x="19554" y="7078"/>
                </a:cubicBezTo>
                <a:cubicBezTo>
                  <a:pt x="19568" y="7027"/>
                  <a:pt x="19648" y="6892"/>
                  <a:pt x="19716" y="6954"/>
                </a:cubicBezTo>
                <a:cubicBezTo>
                  <a:pt x="19787" y="7019"/>
                  <a:pt x="19748" y="7166"/>
                  <a:pt x="19699" y="7232"/>
                </a:cubicBezTo>
                <a:cubicBezTo>
                  <a:pt x="19683" y="7253"/>
                  <a:pt x="19644" y="7309"/>
                  <a:pt x="19609" y="7300"/>
                </a:cubicBezTo>
                <a:cubicBezTo>
                  <a:pt x="19538" y="7281"/>
                  <a:pt x="19529" y="7193"/>
                  <a:pt x="19545" y="7129"/>
                </a:cubicBezTo>
                <a:cubicBezTo>
                  <a:pt x="19561" y="7065"/>
                  <a:pt x="19602" y="7006"/>
                  <a:pt x="19661" y="7061"/>
                </a:cubicBezTo>
                <a:cubicBezTo>
                  <a:pt x="19709" y="7106"/>
                  <a:pt x="19719" y="7244"/>
                  <a:pt x="19648" y="7274"/>
                </a:cubicBezTo>
                <a:cubicBezTo>
                  <a:pt x="19561" y="7310"/>
                  <a:pt x="19497" y="7204"/>
                  <a:pt x="19439" y="7163"/>
                </a:cubicBezTo>
              </a:path>
              <a:path w="6773" h="5280">
                <a:moveTo>
                  <a:pt x="16093" y="10023"/>
                </a:moveTo>
                <a:cubicBezTo>
                  <a:pt x="16089" y="10041"/>
                  <a:pt x="16088" y="10060"/>
                  <a:pt x="16085" y="10078"/>
                </a:cubicBezTo>
                <a:cubicBezTo>
                  <a:pt x="16081" y="10104"/>
                  <a:pt x="16084" y="10129"/>
                  <a:pt x="16081" y="10155"/>
                </a:cubicBezTo>
                <a:cubicBezTo>
                  <a:pt x="16077" y="10190"/>
                  <a:pt x="16072" y="10227"/>
                  <a:pt x="16076" y="10262"/>
                </a:cubicBezTo>
                <a:cubicBezTo>
                  <a:pt x="16080" y="10296"/>
                  <a:pt x="16079" y="10334"/>
                  <a:pt x="16085" y="10368"/>
                </a:cubicBezTo>
                <a:cubicBezTo>
                  <a:pt x="16094" y="10418"/>
                  <a:pt x="16105" y="10473"/>
                  <a:pt x="16119" y="10522"/>
                </a:cubicBezTo>
                <a:cubicBezTo>
                  <a:pt x="16123" y="10537"/>
                  <a:pt x="16124" y="10550"/>
                  <a:pt x="16127" y="10565"/>
                </a:cubicBezTo>
                <a:cubicBezTo>
                  <a:pt x="16128" y="10572"/>
                  <a:pt x="16135" y="10575"/>
                  <a:pt x="16136" y="10582"/>
                </a:cubicBezTo>
                <a:cubicBezTo>
                  <a:pt x="16139" y="10599"/>
                  <a:pt x="16141" y="10608"/>
                  <a:pt x="16149" y="10624"/>
                </a:cubicBezTo>
                <a:cubicBezTo>
                  <a:pt x="16158" y="10643"/>
                  <a:pt x="16164" y="10660"/>
                  <a:pt x="16170" y="10680"/>
                </a:cubicBezTo>
                <a:cubicBezTo>
                  <a:pt x="16177" y="10706"/>
                  <a:pt x="16179" y="10730"/>
                  <a:pt x="16183" y="10757"/>
                </a:cubicBezTo>
                <a:cubicBezTo>
                  <a:pt x="16186" y="10780"/>
                  <a:pt x="16187" y="10802"/>
                  <a:pt x="16187" y="10825"/>
                </a:cubicBezTo>
                <a:cubicBezTo>
                  <a:pt x="16187" y="10836"/>
                  <a:pt x="16187" y="10851"/>
                  <a:pt x="16187" y="10859"/>
                </a:cubicBezTo>
                <a:cubicBezTo>
                  <a:pt x="16185" y="10849"/>
                  <a:pt x="16186" y="10839"/>
                  <a:pt x="16183" y="10829"/>
                </a:cubicBezTo>
                <a:cubicBezTo>
                  <a:pt x="16177" y="10812"/>
                  <a:pt x="16168" y="10795"/>
                  <a:pt x="16162" y="10778"/>
                </a:cubicBezTo>
                <a:cubicBezTo>
                  <a:pt x="16155" y="10755"/>
                  <a:pt x="16152" y="10744"/>
                  <a:pt x="16145" y="10727"/>
                </a:cubicBezTo>
              </a:path>
              <a:path w="6773" h="5280">
                <a:moveTo>
                  <a:pt x="16081" y="10189"/>
                </a:moveTo>
                <a:cubicBezTo>
                  <a:pt x="16084" y="10199"/>
                  <a:pt x="16086" y="10209"/>
                  <a:pt x="16089" y="10219"/>
                </a:cubicBezTo>
                <a:cubicBezTo>
                  <a:pt x="16097" y="10242"/>
                  <a:pt x="16106" y="10269"/>
                  <a:pt x="16115" y="10291"/>
                </a:cubicBezTo>
                <a:cubicBezTo>
                  <a:pt x="16119" y="10299"/>
                  <a:pt x="16119" y="10308"/>
                  <a:pt x="16123" y="10317"/>
                </a:cubicBezTo>
                <a:cubicBezTo>
                  <a:pt x="16126" y="10325"/>
                  <a:pt x="16133" y="10329"/>
                  <a:pt x="16136" y="10338"/>
                </a:cubicBezTo>
                <a:cubicBezTo>
                  <a:pt x="16140" y="10351"/>
                  <a:pt x="16149" y="10357"/>
                  <a:pt x="16153" y="10372"/>
                </a:cubicBezTo>
                <a:cubicBezTo>
                  <a:pt x="16160" y="10395"/>
                  <a:pt x="16159" y="10418"/>
                  <a:pt x="16166" y="10441"/>
                </a:cubicBezTo>
                <a:cubicBezTo>
                  <a:pt x="16170" y="10453"/>
                  <a:pt x="16170" y="10463"/>
                  <a:pt x="16174" y="10475"/>
                </a:cubicBezTo>
                <a:cubicBezTo>
                  <a:pt x="16188" y="10519"/>
                  <a:pt x="16196" y="10556"/>
                  <a:pt x="16204" y="10603"/>
                </a:cubicBezTo>
                <a:cubicBezTo>
                  <a:pt x="16219" y="10693"/>
                  <a:pt x="16241" y="10764"/>
                  <a:pt x="16221" y="10850"/>
                </a:cubicBezTo>
                <a:cubicBezTo>
                  <a:pt x="16218" y="10864"/>
                  <a:pt x="16213" y="10877"/>
                  <a:pt x="16209" y="10889"/>
                </a:cubicBezTo>
                <a:cubicBezTo>
                  <a:pt x="16207" y="10895"/>
                  <a:pt x="16203" y="10900"/>
                  <a:pt x="16200" y="10906"/>
                </a:cubicBezTo>
                <a:cubicBezTo>
                  <a:pt x="16192" y="10924"/>
                  <a:pt x="16186" y="10950"/>
                  <a:pt x="16174" y="10966"/>
                </a:cubicBezTo>
                <a:cubicBezTo>
                  <a:pt x="16149" y="11001"/>
                  <a:pt x="16111" y="11045"/>
                  <a:pt x="16081" y="11077"/>
                </a:cubicBezTo>
                <a:cubicBezTo>
                  <a:pt x="16034" y="11127"/>
                  <a:pt x="15982" y="11171"/>
                  <a:pt x="15931" y="11217"/>
                </a:cubicBezTo>
                <a:cubicBezTo>
                  <a:pt x="15876" y="11266"/>
                  <a:pt x="15819" y="11299"/>
                  <a:pt x="15756" y="11337"/>
                </a:cubicBezTo>
                <a:cubicBezTo>
                  <a:pt x="15691" y="11376"/>
                  <a:pt x="15626" y="11413"/>
                  <a:pt x="15551" y="11431"/>
                </a:cubicBezTo>
                <a:cubicBezTo>
                  <a:pt x="15522" y="11438"/>
                  <a:pt x="15491" y="11440"/>
                  <a:pt x="15462" y="11444"/>
                </a:cubicBezTo>
                <a:cubicBezTo>
                  <a:pt x="15431" y="11448"/>
                  <a:pt x="15399" y="11451"/>
                  <a:pt x="15368" y="11452"/>
                </a:cubicBezTo>
                <a:cubicBezTo>
                  <a:pt x="15214" y="11459"/>
                  <a:pt x="15065" y="11415"/>
                  <a:pt x="14916" y="11380"/>
                </a:cubicBezTo>
                <a:cubicBezTo>
                  <a:pt x="14800" y="11352"/>
                  <a:pt x="14689" y="11331"/>
                  <a:pt x="14570" y="11320"/>
                </a:cubicBezTo>
                <a:cubicBezTo>
                  <a:pt x="14500" y="11314"/>
                  <a:pt x="14431" y="11310"/>
                  <a:pt x="14361" y="11307"/>
                </a:cubicBezTo>
                <a:cubicBezTo>
                  <a:pt x="14273" y="11303"/>
                  <a:pt x="14184" y="11293"/>
                  <a:pt x="14096" y="11290"/>
                </a:cubicBezTo>
                <a:cubicBezTo>
                  <a:pt x="13828" y="11281"/>
                  <a:pt x="13542" y="11339"/>
                  <a:pt x="13298" y="11452"/>
                </a:cubicBezTo>
                <a:cubicBezTo>
                  <a:pt x="13247" y="11476"/>
                  <a:pt x="13202" y="11503"/>
                  <a:pt x="13162" y="11542"/>
                </a:cubicBezTo>
                <a:cubicBezTo>
                  <a:pt x="13111" y="11592"/>
                  <a:pt x="13075" y="11654"/>
                  <a:pt x="13047" y="11721"/>
                </a:cubicBezTo>
                <a:cubicBezTo>
                  <a:pt x="13008" y="11815"/>
                  <a:pt x="12990" y="11927"/>
                  <a:pt x="12987" y="12028"/>
                </a:cubicBezTo>
                <a:cubicBezTo>
                  <a:pt x="12985" y="12093"/>
                  <a:pt x="12983" y="12176"/>
                  <a:pt x="12978" y="12220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Ink 10"/>
          <p:cNvSpPr/>
          <p:nvPr/>
        </p:nvSpPr>
        <p:spPr>
          <a:xfrm>
            <a:off x="8097840" y="5276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494" y="14657"/>
                </a:moveTo>
                <a:lnTo>
                  <a:pt x="22494" y="14657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Ink 11"/>
          <p:cNvSpPr/>
          <p:nvPr/>
        </p:nvSpPr>
        <p:spPr>
          <a:xfrm>
            <a:off x="7489800" y="871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804" y="2419"/>
                </a:moveTo>
                <a:lnTo>
                  <a:pt x="20804" y="2419"/>
                </a:lnTo>
              </a:path>
              <a:path w="1" h="1">
                <a:moveTo>
                  <a:pt x="20804" y="2419"/>
                </a:moveTo>
                <a:lnTo>
                  <a:pt x="20804" y="2419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tructive interfer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waves must arrive to the point of study out of ph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path difference must be an odd multipl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= n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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=1/2,3/2,5/2,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Ink 9"/>
          <p:cNvSpPr/>
          <p:nvPr/>
        </p:nvSpPr>
        <p:spPr>
          <a:xfrm>
            <a:off x="5410080" y="1981080"/>
            <a:ext cx="2665440" cy="1441440"/>
          </a:xfrm>
          <a:custGeom>
            <a:avLst/>
            <a:gdLst/>
            <a:ahLst/>
            <a:rect l="l" t="t" r="r" b="b"/>
            <a:pathLst>
              <a:path w="7404" h="4004">
                <a:moveTo>
                  <a:pt x="14937" y="14960"/>
                </a:moveTo>
                <a:cubicBezTo>
                  <a:pt x="14930" y="14894"/>
                  <a:pt x="14920" y="14827"/>
                  <a:pt x="14920" y="14760"/>
                </a:cubicBezTo>
                <a:cubicBezTo>
                  <a:pt x="14919" y="14514"/>
                  <a:pt x="15004" y="14279"/>
                  <a:pt x="15091" y="14051"/>
                </a:cubicBezTo>
                <a:cubicBezTo>
                  <a:pt x="15145" y="13910"/>
                  <a:pt x="15199" y="13762"/>
                  <a:pt x="15270" y="13629"/>
                </a:cubicBezTo>
                <a:cubicBezTo>
                  <a:pt x="15437" y="13317"/>
                  <a:pt x="15740" y="13206"/>
                  <a:pt x="16055" y="13377"/>
                </a:cubicBezTo>
                <a:cubicBezTo>
                  <a:pt x="16257" y="13486"/>
                  <a:pt x="16329" y="13683"/>
                  <a:pt x="16465" y="13855"/>
                </a:cubicBezTo>
                <a:cubicBezTo>
                  <a:pt x="16633" y="14067"/>
                  <a:pt x="16861" y="14255"/>
                  <a:pt x="17058" y="14439"/>
                </a:cubicBezTo>
                <a:cubicBezTo>
                  <a:pt x="17126" y="14502"/>
                  <a:pt x="17194" y="14566"/>
                  <a:pt x="17275" y="14614"/>
                </a:cubicBezTo>
                <a:cubicBezTo>
                  <a:pt x="17465" y="14726"/>
                  <a:pt x="17666" y="14759"/>
                  <a:pt x="17885" y="14755"/>
                </a:cubicBezTo>
                <a:cubicBezTo>
                  <a:pt x="18090" y="14751"/>
                  <a:pt x="18286" y="14674"/>
                  <a:pt x="18457" y="14563"/>
                </a:cubicBezTo>
                <a:cubicBezTo>
                  <a:pt x="18544" y="14507"/>
                  <a:pt x="18603" y="14436"/>
                  <a:pt x="18666" y="14354"/>
                </a:cubicBezTo>
                <a:cubicBezTo>
                  <a:pt x="18738" y="14261"/>
                  <a:pt x="18804" y="14159"/>
                  <a:pt x="18858" y="14055"/>
                </a:cubicBezTo>
                <a:cubicBezTo>
                  <a:pt x="18946" y="13885"/>
                  <a:pt x="18978" y="13707"/>
                  <a:pt x="18995" y="13518"/>
                </a:cubicBezTo>
                <a:cubicBezTo>
                  <a:pt x="19006" y="13395"/>
                  <a:pt x="19010" y="13273"/>
                  <a:pt x="18991" y="13151"/>
                </a:cubicBezTo>
                <a:cubicBezTo>
                  <a:pt x="18975" y="13051"/>
                  <a:pt x="18941" y="12945"/>
                  <a:pt x="18914" y="12852"/>
                </a:cubicBezTo>
                <a:cubicBezTo>
                  <a:pt x="18909" y="12836"/>
                  <a:pt x="18904" y="12817"/>
                  <a:pt x="18897" y="12801"/>
                </a:cubicBezTo>
                <a:cubicBezTo>
                  <a:pt x="18886" y="12776"/>
                  <a:pt x="18883" y="12759"/>
                  <a:pt x="18867" y="12741"/>
                </a:cubicBezTo>
                <a:cubicBezTo>
                  <a:pt x="18858" y="12732"/>
                  <a:pt x="18862" y="12736"/>
                  <a:pt x="18850" y="12732"/>
                </a:cubicBezTo>
                <a:cubicBezTo>
                  <a:pt x="18844" y="12730"/>
                  <a:pt x="18856" y="12728"/>
                  <a:pt x="18850" y="12728"/>
                </a:cubicBezTo>
                <a:cubicBezTo>
                  <a:pt x="18849" y="12728"/>
                  <a:pt x="18851" y="12741"/>
                  <a:pt x="18850" y="12741"/>
                </a:cubicBezTo>
                <a:cubicBezTo>
                  <a:pt x="18844" y="12742"/>
                  <a:pt x="18839" y="12757"/>
                  <a:pt x="18837" y="12758"/>
                </a:cubicBezTo>
                <a:cubicBezTo>
                  <a:pt x="18829" y="12761"/>
                  <a:pt x="18812" y="12756"/>
                  <a:pt x="18803" y="12762"/>
                </a:cubicBezTo>
                <a:cubicBezTo>
                  <a:pt x="18798" y="12777"/>
                  <a:pt x="18795" y="12783"/>
                  <a:pt x="18782" y="12788"/>
                </a:cubicBezTo>
              </a:path>
              <a:path w="7404" h="4004">
                <a:moveTo>
                  <a:pt x="15466" y="16437"/>
                </a:moveTo>
                <a:cubicBezTo>
                  <a:pt x="15526" y="16501"/>
                  <a:pt x="15538" y="16548"/>
                  <a:pt x="15628" y="16582"/>
                </a:cubicBezTo>
                <a:cubicBezTo>
                  <a:pt x="15768" y="16636"/>
                  <a:pt x="15933" y="16623"/>
                  <a:pt x="16068" y="16560"/>
                </a:cubicBezTo>
                <a:cubicBezTo>
                  <a:pt x="16133" y="16530"/>
                  <a:pt x="16192" y="16487"/>
                  <a:pt x="16243" y="16437"/>
                </a:cubicBezTo>
                <a:cubicBezTo>
                  <a:pt x="16433" y="16253"/>
                  <a:pt x="16416" y="16010"/>
                  <a:pt x="16435" y="15767"/>
                </a:cubicBezTo>
                <a:cubicBezTo>
                  <a:pt x="16441" y="15692"/>
                  <a:pt x="16447" y="15616"/>
                  <a:pt x="16456" y="15541"/>
                </a:cubicBezTo>
                <a:cubicBezTo>
                  <a:pt x="16475" y="15382"/>
                  <a:pt x="16514" y="15224"/>
                  <a:pt x="16546" y="15067"/>
                </a:cubicBezTo>
                <a:cubicBezTo>
                  <a:pt x="16621" y="14695"/>
                  <a:pt x="16699" y="14334"/>
                  <a:pt x="16823" y="13974"/>
                </a:cubicBezTo>
                <a:cubicBezTo>
                  <a:pt x="16936" y="13647"/>
                  <a:pt x="17110" y="13308"/>
                  <a:pt x="17378" y="13082"/>
                </a:cubicBezTo>
                <a:cubicBezTo>
                  <a:pt x="17679" y="12828"/>
                  <a:pt x="18132" y="12762"/>
                  <a:pt x="18508" y="12831"/>
                </a:cubicBezTo>
                <a:cubicBezTo>
                  <a:pt x="18598" y="12847"/>
                  <a:pt x="18793" y="12875"/>
                  <a:pt x="18807" y="12997"/>
                </a:cubicBezTo>
                <a:cubicBezTo>
                  <a:pt x="18813" y="13044"/>
                  <a:pt x="18761" y="13144"/>
                  <a:pt x="18709" y="13078"/>
                </a:cubicBezTo>
                <a:cubicBezTo>
                  <a:pt x="18643" y="12993"/>
                  <a:pt x="18673" y="12810"/>
                  <a:pt x="18735" y="12732"/>
                </a:cubicBezTo>
                <a:cubicBezTo>
                  <a:pt x="18764" y="12696"/>
                  <a:pt x="18798" y="12668"/>
                  <a:pt x="18850" y="12677"/>
                </a:cubicBezTo>
                <a:cubicBezTo>
                  <a:pt x="19004" y="12704"/>
                  <a:pt x="18895" y="12931"/>
                  <a:pt x="18807" y="12967"/>
                </a:cubicBezTo>
                <a:cubicBezTo>
                  <a:pt x="18723" y="13002"/>
                  <a:pt x="18674" y="12963"/>
                  <a:pt x="18654" y="12882"/>
                </a:cubicBezTo>
                <a:cubicBezTo>
                  <a:pt x="18616" y="12728"/>
                  <a:pt x="18809" y="12574"/>
                  <a:pt x="18944" y="12634"/>
                </a:cubicBezTo>
                <a:cubicBezTo>
                  <a:pt x="19085" y="12697"/>
                  <a:pt x="19025" y="12861"/>
                  <a:pt x="18927" y="12929"/>
                </a:cubicBezTo>
                <a:cubicBezTo>
                  <a:pt x="18836" y="12993"/>
                  <a:pt x="18712" y="12986"/>
                  <a:pt x="18671" y="12873"/>
                </a:cubicBezTo>
                <a:cubicBezTo>
                  <a:pt x="18628" y="12753"/>
                  <a:pt x="18814" y="12599"/>
                  <a:pt x="18914" y="12698"/>
                </a:cubicBezTo>
                <a:cubicBezTo>
                  <a:pt x="19052" y="12834"/>
                  <a:pt x="18800" y="13115"/>
                  <a:pt x="18701" y="12976"/>
                </a:cubicBezTo>
                <a:cubicBezTo>
                  <a:pt x="18637" y="12886"/>
                  <a:pt x="18741" y="12670"/>
                  <a:pt x="18858" y="12668"/>
                </a:cubicBezTo>
                <a:cubicBezTo>
                  <a:pt x="18929" y="12667"/>
                  <a:pt x="18955" y="12712"/>
                  <a:pt x="18957" y="12779"/>
                </a:cubicBezTo>
                <a:cubicBezTo>
                  <a:pt x="18958" y="12839"/>
                  <a:pt x="18935" y="12896"/>
                  <a:pt x="18884" y="12929"/>
                </a:cubicBezTo>
                <a:cubicBezTo>
                  <a:pt x="18849" y="12952"/>
                  <a:pt x="18810" y="12954"/>
                  <a:pt x="18773" y="12933"/>
                </a:cubicBezTo>
                <a:cubicBezTo>
                  <a:pt x="18737" y="12913"/>
                  <a:pt x="18720" y="12872"/>
                  <a:pt x="18718" y="12831"/>
                </a:cubicBezTo>
                <a:cubicBezTo>
                  <a:pt x="18715" y="12762"/>
                  <a:pt x="18783" y="12648"/>
                  <a:pt x="18863" y="12656"/>
                </a:cubicBezTo>
                <a:cubicBezTo>
                  <a:pt x="18904" y="12660"/>
                  <a:pt x="18919" y="12667"/>
                  <a:pt x="18939" y="12703"/>
                </a:cubicBezTo>
                <a:cubicBezTo>
                  <a:pt x="18984" y="12785"/>
                  <a:pt x="18830" y="12972"/>
                  <a:pt x="18756" y="12895"/>
                </a:cubicBezTo>
                <a:cubicBezTo>
                  <a:pt x="18721" y="12858"/>
                  <a:pt x="18734" y="12806"/>
                  <a:pt x="18752" y="12762"/>
                </a:cubicBezTo>
                <a:cubicBezTo>
                  <a:pt x="18773" y="12711"/>
                  <a:pt x="18836" y="12638"/>
                  <a:pt x="18893" y="12677"/>
                </a:cubicBezTo>
                <a:cubicBezTo>
                  <a:pt x="18994" y="12746"/>
                  <a:pt x="18868" y="12928"/>
                  <a:pt x="18765" y="12895"/>
                </a:cubicBezTo>
                <a:cubicBezTo>
                  <a:pt x="18689" y="12870"/>
                  <a:pt x="18674" y="12797"/>
                  <a:pt x="18722" y="12737"/>
                </a:cubicBezTo>
                <a:cubicBezTo>
                  <a:pt x="18757" y="12694"/>
                  <a:pt x="18832" y="12686"/>
                  <a:pt x="18880" y="12681"/>
                </a:cubicBezTo>
                <a:cubicBezTo>
                  <a:pt x="18933" y="12675"/>
                  <a:pt x="19011" y="12677"/>
                  <a:pt x="19021" y="12741"/>
                </a:cubicBezTo>
                <a:cubicBezTo>
                  <a:pt x="19032" y="12810"/>
                  <a:pt x="18853" y="12965"/>
                  <a:pt x="18790" y="12920"/>
                </a:cubicBezTo>
                <a:cubicBezTo>
                  <a:pt x="18729" y="12876"/>
                  <a:pt x="18755" y="12821"/>
                  <a:pt x="18790" y="12762"/>
                </a:cubicBezTo>
                <a:cubicBezTo>
                  <a:pt x="18804" y="12738"/>
                  <a:pt x="18852" y="12661"/>
                  <a:pt x="18893" y="12677"/>
                </a:cubicBezTo>
                <a:cubicBezTo>
                  <a:pt x="18963" y="12705"/>
                  <a:pt x="18901" y="12758"/>
                  <a:pt x="18931" y="12796"/>
                </a:cubicBezTo>
              </a:path>
              <a:path w="7404" h="4004">
                <a:moveTo>
                  <a:pt x="14903" y="14760"/>
                </a:moveTo>
                <a:cubicBezTo>
                  <a:pt x="14898" y="14792"/>
                  <a:pt x="14890" y="14825"/>
                  <a:pt x="14886" y="14858"/>
                </a:cubicBezTo>
                <a:cubicBezTo>
                  <a:pt x="14882" y="14890"/>
                  <a:pt x="14879" y="14920"/>
                  <a:pt x="14877" y="14952"/>
                </a:cubicBezTo>
                <a:cubicBezTo>
                  <a:pt x="14873" y="15003"/>
                  <a:pt x="14873" y="15054"/>
                  <a:pt x="14869" y="15105"/>
                </a:cubicBezTo>
                <a:cubicBezTo>
                  <a:pt x="14867" y="15133"/>
                  <a:pt x="14866" y="15163"/>
                  <a:pt x="14860" y="15191"/>
                </a:cubicBezTo>
                <a:cubicBezTo>
                  <a:pt x="14850" y="15236"/>
                  <a:pt x="14833" y="15278"/>
                  <a:pt x="14813" y="15319"/>
                </a:cubicBezTo>
                <a:cubicBezTo>
                  <a:pt x="14774" y="15400"/>
                  <a:pt x="14727" y="15469"/>
                  <a:pt x="14660" y="15528"/>
                </a:cubicBezTo>
                <a:cubicBezTo>
                  <a:pt x="14626" y="15558"/>
                  <a:pt x="14591" y="15577"/>
                  <a:pt x="14553" y="15600"/>
                </a:cubicBezTo>
                <a:cubicBezTo>
                  <a:pt x="14508" y="15627"/>
                  <a:pt x="14459" y="15652"/>
                  <a:pt x="14408" y="15664"/>
                </a:cubicBezTo>
                <a:cubicBezTo>
                  <a:pt x="14194" y="15715"/>
                  <a:pt x="14026" y="15552"/>
                  <a:pt x="13879" y="15425"/>
                </a:cubicBezTo>
                <a:cubicBezTo>
                  <a:pt x="13836" y="15388"/>
                  <a:pt x="13793" y="15354"/>
                  <a:pt x="13746" y="15323"/>
                </a:cubicBezTo>
                <a:cubicBezTo>
                  <a:pt x="13679" y="15278"/>
                  <a:pt x="13607" y="15239"/>
                  <a:pt x="13537" y="15199"/>
                </a:cubicBezTo>
                <a:cubicBezTo>
                  <a:pt x="13476" y="15164"/>
                  <a:pt x="13415" y="15129"/>
                  <a:pt x="13354" y="15097"/>
                </a:cubicBezTo>
                <a:cubicBezTo>
                  <a:pt x="13274" y="15055"/>
                  <a:pt x="13191" y="15018"/>
                  <a:pt x="13106" y="14986"/>
                </a:cubicBezTo>
                <a:cubicBezTo>
                  <a:pt x="12990" y="14942"/>
                  <a:pt x="12871" y="14919"/>
                  <a:pt x="12752" y="14888"/>
                </a:cubicBezTo>
                <a:cubicBezTo>
                  <a:pt x="12618" y="14854"/>
                  <a:pt x="12489" y="14834"/>
                  <a:pt x="12351" y="14832"/>
                </a:cubicBezTo>
                <a:cubicBezTo>
                  <a:pt x="12286" y="14831"/>
                  <a:pt x="12227" y="14835"/>
                  <a:pt x="12163" y="14849"/>
                </a:cubicBezTo>
                <a:cubicBezTo>
                  <a:pt x="12107" y="14862"/>
                  <a:pt x="12049" y="14879"/>
                  <a:pt x="11997" y="14905"/>
                </a:cubicBezTo>
                <a:cubicBezTo>
                  <a:pt x="11905" y="14952"/>
                  <a:pt x="11822" y="15025"/>
                  <a:pt x="11758" y="15105"/>
                </a:cubicBezTo>
                <a:cubicBezTo>
                  <a:pt x="11714" y="15161"/>
                  <a:pt x="11663" y="15237"/>
                  <a:pt x="11643" y="15306"/>
                </a:cubicBezTo>
                <a:cubicBezTo>
                  <a:pt x="11633" y="15341"/>
                  <a:pt x="11633" y="15376"/>
                  <a:pt x="11626" y="15412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k 7"/>
          <p:cNvSpPr/>
          <p:nvPr/>
        </p:nvSpPr>
        <p:spPr>
          <a:xfrm>
            <a:off x="5791320" y="3200400"/>
            <a:ext cx="1033200" cy="960480"/>
          </a:xfrm>
          <a:custGeom>
            <a:avLst/>
            <a:gdLst/>
            <a:ahLst/>
            <a:rect l="l" t="t" r="r" b="b"/>
            <a:pathLst>
              <a:path w="2873" h="2664">
                <a:moveTo>
                  <a:pt x="15389" y="16484"/>
                </a:moveTo>
                <a:cubicBezTo>
                  <a:pt x="15385" y="16479"/>
                  <a:pt x="15395" y="16474"/>
                  <a:pt x="15389" y="16471"/>
                </a:cubicBezTo>
                <a:cubicBezTo>
                  <a:pt x="15377" y="16466"/>
                  <a:pt x="15382" y="16479"/>
                  <a:pt x="15372" y="16471"/>
                </a:cubicBezTo>
                <a:cubicBezTo>
                  <a:pt x="15370" y="16466"/>
                  <a:pt x="15365" y="16463"/>
                  <a:pt x="15364" y="16454"/>
                </a:cubicBezTo>
                <a:cubicBezTo>
                  <a:pt x="15363" y="16451"/>
                  <a:pt x="15364" y="16443"/>
                  <a:pt x="15364" y="16441"/>
                </a:cubicBezTo>
                <a:cubicBezTo>
                  <a:pt x="15362" y="16433"/>
                  <a:pt x="15367" y="16436"/>
                  <a:pt x="15364" y="16428"/>
                </a:cubicBezTo>
                <a:cubicBezTo>
                  <a:pt x="15361" y="16420"/>
                  <a:pt x="15356" y="16423"/>
                  <a:pt x="15355" y="16420"/>
                </a:cubicBezTo>
                <a:cubicBezTo>
                  <a:pt x="15353" y="16414"/>
                  <a:pt x="15361" y="16417"/>
                  <a:pt x="15359" y="16411"/>
                </a:cubicBezTo>
                <a:cubicBezTo>
                  <a:pt x="15355" y="16399"/>
                  <a:pt x="15346" y="16389"/>
                  <a:pt x="15342" y="16377"/>
                </a:cubicBezTo>
                <a:cubicBezTo>
                  <a:pt x="15338" y="16365"/>
                  <a:pt x="15333" y="16351"/>
                  <a:pt x="15329" y="16339"/>
                </a:cubicBezTo>
                <a:cubicBezTo>
                  <a:pt x="15322" y="16319"/>
                  <a:pt x="15319" y="16298"/>
                  <a:pt x="15312" y="16279"/>
                </a:cubicBezTo>
                <a:cubicBezTo>
                  <a:pt x="15304" y="16258"/>
                  <a:pt x="15293" y="16239"/>
                  <a:pt x="15283" y="16219"/>
                </a:cubicBezTo>
                <a:cubicBezTo>
                  <a:pt x="15269" y="16192"/>
                  <a:pt x="15252" y="16168"/>
                  <a:pt x="15236" y="16142"/>
                </a:cubicBezTo>
                <a:cubicBezTo>
                  <a:pt x="15225" y="16124"/>
                  <a:pt x="15214" y="16108"/>
                  <a:pt x="15201" y="16091"/>
                </a:cubicBezTo>
                <a:cubicBezTo>
                  <a:pt x="15174" y="16055"/>
                  <a:pt x="15150" y="16038"/>
                  <a:pt x="15120" y="16018"/>
                </a:cubicBezTo>
                <a:cubicBezTo>
                  <a:pt x="15114" y="16014"/>
                  <a:pt x="15113" y="16013"/>
                  <a:pt x="15108" y="16010"/>
                </a:cubicBezTo>
                <a:cubicBezTo>
                  <a:pt x="15092" y="16000"/>
                  <a:pt x="15065" y="15989"/>
                  <a:pt x="15048" y="15980"/>
                </a:cubicBezTo>
                <a:cubicBezTo>
                  <a:pt x="15000" y="15953"/>
                  <a:pt x="14952" y="15925"/>
                  <a:pt x="14899" y="15908"/>
                </a:cubicBezTo>
                <a:cubicBezTo>
                  <a:pt x="14869" y="15898"/>
                  <a:pt x="14840" y="15894"/>
                  <a:pt x="14809" y="15890"/>
                </a:cubicBezTo>
                <a:cubicBezTo>
                  <a:pt x="14715" y="15878"/>
                  <a:pt x="14642" y="15903"/>
                  <a:pt x="14553" y="15929"/>
                </a:cubicBezTo>
                <a:cubicBezTo>
                  <a:pt x="14505" y="15943"/>
                  <a:pt x="14457" y="15954"/>
                  <a:pt x="14408" y="15967"/>
                </a:cubicBezTo>
                <a:cubicBezTo>
                  <a:pt x="14291" y="15998"/>
                  <a:pt x="14162" y="16010"/>
                  <a:pt x="14049" y="16053"/>
                </a:cubicBezTo>
                <a:cubicBezTo>
                  <a:pt x="13886" y="16116"/>
                  <a:pt x="13718" y="16231"/>
                  <a:pt x="13589" y="16347"/>
                </a:cubicBezTo>
                <a:cubicBezTo>
                  <a:pt x="13557" y="16376"/>
                  <a:pt x="13523" y="16408"/>
                  <a:pt x="13503" y="16445"/>
                </a:cubicBezTo>
                <a:cubicBezTo>
                  <a:pt x="13470" y="16507"/>
                  <a:pt x="13476" y="16541"/>
                  <a:pt x="13482" y="16607"/>
                </a:cubicBezTo>
                <a:cubicBezTo>
                  <a:pt x="13485" y="16643"/>
                  <a:pt x="13500" y="16678"/>
                  <a:pt x="13507" y="16714"/>
                </a:cubicBezTo>
                <a:cubicBezTo>
                  <a:pt x="13563" y="16994"/>
                  <a:pt x="13495" y="17297"/>
                  <a:pt x="13435" y="17572"/>
                </a:cubicBezTo>
                <a:cubicBezTo>
                  <a:pt x="13395" y="17756"/>
                  <a:pt x="13334" y="17969"/>
                  <a:pt x="13226" y="18127"/>
                </a:cubicBezTo>
                <a:cubicBezTo>
                  <a:pt x="13097" y="18316"/>
                  <a:pt x="12877" y="18420"/>
                  <a:pt x="12671" y="18506"/>
                </a:cubicBezTo>
                <a:cubicBezTo>
                  <a:pt x="12608" y="18533"/>
                  <a:pt x="12571" y="18524"/>
                  <a:pt x="12517" y="18532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first location of constructive or destructive inter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 Constructive Interference of Waves from Two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380880" y="11430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304920" y="914400"/>
            <a:ext cx="27432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L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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=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small angl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L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62673"/>
                </a:solidFill>
                <a:latin typeface="Arial Unicode MS"/>
              </a:rPr>
              <a:t>dsin</a:t>
            </a:r>
            <a:r>
              <a:rPr b="1" lang="en-US" sz="3600" spc="-1" strike="noStrike">
                <a:solidFill>
                  <a:srgbClr val="262673"/>
                </a:solidFill>
                <a:latin typeface="Symbol"/>
                <a:ea typeface="Symbol"/>
              </a:rPr>
              <a:t></a:t>
            </a:r>
            <a:r>
              <a:rPr b="1" lang="en-US" sz="3600" spc="-1" strike="noStrike">
                <a:solidFill>
                  <a:srgbClr val="262673"/>
                </a:solidFill>
                <a:latin typeface="Arial Unicode MS"/>
              </a:rPr>
              <a:t>n</a:t>
            </a:r>
            <a:r>
              <a:rPr b="1" lang="en-US" sz="3600" spc="-1" strike="noStrike">
                <a:solidFill>
                  <a:srgbClr val="262673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262673"/>
                </a:solidFill>
                <a:latin typeface="Symbol"/>
                <a:ea typeface="Symbol"/>
              </a:rPr>
              <a:t></a:t>
            </a:r>
            <a:r>
              <a:rPr b="1" lang="en-US" sz="3600" spc="-1" strike="noStrike" u="sng">
                <a:solidFill>
                  <a:srgbClr val="262673"/>
                </a:solidFill>
                <a:uFillTx/>
                <a:latin typeface="Arial Unicode MS"/>
              </a:rPr>
              <a:t>d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4191120" y="2971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7"/>
          <p:cNvSpPr/>
          <p:nvPr/>
        </p:nvSpPr>
        <p:spPr>
          <a:xfrm>
            <a:off x="419112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8"/>
          <p:cNvSpPr/>
          <p:nvPr/>
        </p:nvSpPr>
        <p:spPr>
          <a:xfrm>
            <a:off x="419112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9"/>
          <p:cNvSpPr/>
          <p:nvPr/>
        </p:nvSpPr>
        <p:spPr>
          <a:xfrm flipV="1">
            <a:off x="4191120" y="137124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0"/>
          <p:cNvSpPr/>
          <p:nvPr/>
        </p:nvSpPr>
        <p:spPr>
          <a:xfrm flipV="1">
            <a:off x="4267080" y="1447920"/>
            <a:ext cx="33530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1"/>
          <p:cNvSpPr/>
          <p:nvPr/>
        </p:nvSpPr>
        <p:spPr>
          <a:xfrm>
            <a:off x="4267080" y="29718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2"/>
          <p:cNvSpPr/>
          <p:nvPr/>
        </p:nvSpPr>
        <p:spPr>
          <a:xfrm>
            <a:off x="7620120" y="533520"/>
            <a:ext cx="0" cy="57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4290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41148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8"/>
          <p:cNvSpPr/>
          <p:nvPr/>
        </p:nvSpPr>
        <p:spPr>
          <a:xfrm>
            <a:off x="41911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9"/>
          <p:cNvSpPr/>
          <p:nvPr/>
        </p:nvSpPr>
        <p:spPr>
          <a:xfrm flipV="1">
            <a:off x="4191120" y="1447560"/>
            <a:ext cx="33526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8"/>
          <p:cNvSpPr/>
          <p:nvPr/>
        </p:nvSpPr>
        <p:spPr>
          <a:xfrm>
            <a:off x="6019920" y="4038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9"/>
          <p:cNvSpPr/>
          <p:nvPr/>
        </p:nvSpPr>
        <p:spPr>
          <a:xfrm>
            <a:off x="777240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0"/>
          <p:cNvSpPr/>
          <p:nvPr/>
        </p:nvSpPr>
        <p:spPr>
          <a:xfrm>
            <a:off x="4572000" y="350532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3505320" y="60958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0,1,2,3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Ink 71"/>
          <p:cNvSpPr/>
          <p:nvPr/>
        </p:nvSpPr>
        <p:spPr>
          <a:xfrm>
            <a:off x="4132440" y="2759040"/>
            <a:ext cx="153720" cy="235080"/>
          </a:xfrm>
          <a:custGeom>
            <a:avLst/>
            <a:gdLst/>
            <a:ahLst/>
            <a:rect l="l" t="t" r="r" b="b"/>
            <a:pathLst>
              <a:path w="427" h="650">
                <a:moveTo>
                  <a:pt x="11738" y="8068"/>
                </a:moveTo>
                <a:cubicBezTo>
                  <a:pt x="11740" y="8047"/>
                  <a:pt x="11741" y="8022"/>
                  <a:pt x="11747" y="8001"/>
                </a:cubicBezTo>
                <a:cubicBezTo>
                  <a:pt x="11751" y="7988"/>
                  <a:pt x="11763" y="7951"/>
                  <a:pt x="11774" y="7943"/>
                </a:cubicBezTo>
                <a:cubicBezTo>
                  <a:pt x="11789" y="7931"/>
                  <a:pt x="11780" y="7940"/>
                  <a:pt x="11796" y="7947"/>
                </a:cubicBezTo>
                <a:cubicBezTo>
                  <a:pt x="11803" y="7970"/>
                  <a:pt x="11805" y="7986"/>
                  <a:pt x="11805" y="8010"/>
                </a:cubicBezTo>
                <a:cubicBezTo>
                  <a:pt x="11805" y="8049"/>
                  <a:pt x="11793" y="8082"/>
                  <a:pt x="11769" y="8113"/>
                </a:cubicBezTo>
                <a:cubicBezTo>
                  <a:pt x="11746" y="8142"/>
                  <a:pt x="11718" y="8162"/>
                  <a:pt x="11684" y="8176"/>
                </a:cubicBezTo>
                <a:cubicBezTo>
                  <a:pt x="11651" y="8189"/>
                  <a:pt x="11627" y="8187"/>
                  <a:pt x="11599" y="8167"/>
                </a:cubicBezTo>
                <a:cubicBezTo>
                  <a:pt x="11593" y="8162"/>
                  <a:pt x="11587" y="8158"/>
                  <a:pt x="11581" y="8153"/>
                </a:cubicBezTo>
                <a:cubicBezTo>
                  <a:pt x="11564" y="8117"/>
                  <a:pt x="11550" y="8082"/>
                  <a:pt x="11550" y="8041"/>
                </a:cubicBezTo>
                <a:cubicBezTo>
                  <a:pt x="11550" y="7999"/>
                  <a:pt x="11564" y="7944"/>
                  <a:pt x="11585" y="7907"/>
                </a:cubicBezTo>
                <a:cubicBezTo>
                  <a:pt x="11605" y="7873"/>
                  <a:pt x="11636" y="7848"/>
                  <a:pt x="11675" y="7844"/>
                </a:cubicBezTo>
                <a:cubicBezTo>
                  <a:pt x="11728" y="7838"/>
                  <a:pt x="11773" y="7878"/>
                  <a:pt x="11800" y="7920"/>
                </a:cubicBezTo>
                <a:cubicBezTo>
                  <a:pt x="11827" y="7964"/>
                  <a:pt x="11835" y="8017"/>
                  <a:pt x="11832" y="8068"/>
                </a:cubicBezTo>
                <a:cubicBezTo>
                  <a:pt x="11829" y="8122"/>
                  <a:pt x="11812" y="8173"/>
                  <a:pt x="11778" y="8216"/>
                </a:cubicBezTo>
                <a:cubicBezTo>
                  <a:pt x="11749" y="8252"/>
                  <a:pt x="11708" y="8295"/>
                  <a:pt x="11662" y="8310"/>
                </a:cubicBezTo>
                <a:cubicBezTo>
                  <a:pt x="11627" y="8321"/>
                  <a:pt x="11600" y="8308"/>
                  <a:pt x="11568" y="8297"/>
                </a:cubicBezTo>
                <a:cubicBezTo>
                  <a:pt x="11529" y="8261"/>
                  <a:pt x="11500" y="8227"/>
                  <a:pt x="11491" y="8171"/>
                </a:cubicBezTo>
                <a:cubicBezTo>
                  <a:pt x="11482" y="8111"/>
                  <a:pt x="11495" y="8045"/>
                  <a:pt x="11523" y="7992"/>
                </a:cubicBezTo>
                <a:cubicBezTo>
                  <a:pt x="11552" y="7937"/>
                  <a:pt x="11595" y="7889"/>
                  <a:pt x="11648" y="7857"/>
                </a:cubicBezTo>
                <a:cubicBezTo>
                  <a:pt x="11709" y="7820"/>
                  <a:pt x="11770" y="7820"/>
                  <a:pt x="11827" y="7862"/>
                </a:cubicBezTo>
                <a:cubicBezTo>
                  <a:pt x="11838" y="7871"/>
                  <a:pt x="11848" y="7880"/>
                  <a:pt x="11859" y="7889"/>
                </a:cubicBezTo>
                <a:cubicBezTo>
                  <a:pt x="11888" y="7937"/>
                  <a:pt x="11909" y="7982"/>
                  <a:pt x="11904" y="8041"/>
                </a:cubicBezTo>
                <a:cubicBezTo>
                  <a:pt x="11898" y="8109"/>
                  <a:pt x="11879" y="8152"/>
                  <a:pt x="11836" y="8202"/>
                </a:cubicBezTo>
                <a:cubicBezTo>
                  <a:pt x="11798" y="8246"/>
                  <a:pt x="11746" y="8289"/>
                  <a:pt x="11688" y="8305"/>
                </a:cubicBezTo>
                <a:cubicBezTo>
                  <a:pt x="11644" y="8317"/>
                  <a:pt x="11609" y="8304"/>
                  <a:pt x="11568" y="8292"/>
                </a:cubicBezTo>
                <a:cubicBezTo>
                  <a:pt x="11527" y="8255"/>
                  <a:pt x="11493" y="8219"/>
                  <a:pt x="11482" y="8162"/>
                </a:cubicBezTo>
                <a:cubicBezTo>
                  <a:pt x="11469" y="8097"/>
                  <a:pt x="11483" y="8018"/>
                  <a:pt x="11505" y="7956"/>
                </a:cubicBezTo>
                <a:cubicBezTo>
                  <a:pt x="11530" y="7888"/>
                  <a:pt x="11584" y="7805"/>
                  <a:pt x="11657" y="7781"/>
                </a:cubicBezTo>
                <a:cubicBezTo>
                  <a:pt x="11669" y="7780"/>
                  <a:pt x="11681" y="7778"/>
                  <a:pt x="11693" y="7777"/>
                </a:cubicBezTo>
                <a:cubicBezTo>
                  <a:pt x="11745" y="7782"/>
                  <a:pt x="11782" y="7792"/>
                  <a:pt x="11814" y="7839"/>
                </a:cubicBezTo>
                <a:cubicBezTo>
                  <a:pt x="11846" y="7886"/>
                  <a:pt x="11859" y="7963"/>
                  <a:pt x="11859" y="8019"/>
                </a:cubicBezTo>
                <a:cubicBezTo>
                  <a:pt x="11859" y="8071"/>
                  <a:pt x="11853" y="8148"/>
                  <a:pt x="11823" y="8193"/>
                </a:cubicBezTo>
                <a:cubicBezTo>
                  <a:pt x="11802" y="8225"/>
                  <a:pt x="11773" y="8239"/>
                  <a:pt x="11742" y="8256"/>
                </a:cubicBezTo>
                <a:cubicBezTo>
                  <a:pt x="11693" y="8262"/>
                  <a:pt x="11654" y="8262"/>
                  <a:pt x="11612" y="8229"/>
                </a:cubicBezTo>
                <a:cubicBezTo>
                  <a:pt x="11559" y="8188"/>
                  <a:pt x="11532" y="8126"/>
                  <a:pt x="11518" y="8063"/>
                </a:cubicBezTo>
                <a:cubicBezTo>
                  <a:pt x="11500" y="7982"/>
                  <a:pt x="11506" y="7917"/>
                  <a:pt x="11532" y="7839"/>
                </a:cubicBezTo>
                <a:cubicBezTo>
                  <a:pt x="11555" y="7769"/>
                  <a:pt x="11590" y="7724"/>
                  <a:pt x="11653" y="7687"/>
                </a:cubicBezTo>
                <a:cubicBezTo>
                  <a:pt x="11694" y="7663"/>
                  <a:pt x="11720" y="7667"/>
                  <a:pt x="11765" y="7669"/>
                </a:cubicBezTo>
                <a:cubicBezTo>
                  <a:pt x="11819" y="7699"/>
                  <a:pt x="11855" y="7729"/>
                  <a:pt x="11868" y="7795"/>
                </a:cubicBezTo>
                <a:cubicBezTo>
                  <a:pt x="11883" y="7869"/>
                  <a:pt x="11875" y="7958"/>
                  <a:pt x="11850" y="8028"/>
                </a:cubicBezTo>
                <a:cubicBezTo>
                  <a:pt x="11823" y="8104"/>
                  <a:pt x="11775" y="8165"/>
                  <a:pt x="11715" y="8216"/>
                </a:cubicBezTo>
                <a:cubicBezTo>
                  <a:pt x="11675" y="8249"/>
                  <a:pt x="11652" y="8249"/>
                  <a:pt x="11603" y="8252"/>
                </a:cubicBezTo>
                <a:cubicBezTo>
                  <a:pt x="11548" y="8220"/>
                  <a:pt x="11525" y="8192"/>
                  <a:pt x="11514" y="8126"/>
                </a:cubicBezTo>
                <a:cubicBezTo>
                  <a:pt x="11501" y="8050"/>
                  <a:pt x="11511" y="7976"/>
                  <a:pt x="11532" y="7902"/>
                </a:cubicBezTo>
                <a:cubicBezTo>
                  <a:pt x="11552" y="7835"/>
                  <a:pt x="11580" y="7783"/>
                  <a:pt x="11644" y="7750"/>
                </a:cubicBezTo>
                <a:cubicBezTo>
                  <a:pt x="11679" y="7736"/>
                  <a:pt x="11690" y="7732"/>
                  <a:pt x="11715" y="7736"/>
                </a:cubicBezTo>
                <a:cubicBezTo>
                  <a:pt x="11769" y="7763"/>
                  <a:pt x="11807" y="7791"/>
                  <a:pt x="11827" y="7853"/>
                </a:cubicBezTo>
                <a:cubicBezTo>
                  <a:pt x="11848" y="7917"/>
                  <a:pt x="11846" y="8004"/>
                  <a:pt x="11827" y="8068"/>
                </a:cubicBezTo>
                <a:cubicBezTo>
                  <a:pt x="11810" y="8126"/>
                  <a:pt x="11769" y="8185"/>
                  <a:pt x="11720" y="8220"/>
                </a:cubicBezTo>
                <a:cubicBezTo>
                  <a:pt x="11709" y="8226"/>
                  <a:pt x="11699" y="8232"/>
                  <a:pt x="11688" y="8238"/>
                </a:cubicBezTo>
                <a:cubicBezTo>
                  <a:pt x="11634" y="8242"/>
                  <a:pt x="11601" y="8242"/>
                  <a:pt x="11572" y="8189"/>
                </a:cubicBezTo>
                <a:cubicBezTo>
                  <a:pt x="11537" y="8125"/>
                  <a:pt x="11533" y="8049"/>
                  <a:pt x="11536" y="7978"/>
                </a:cubicBezTo>
                <a:cubicBezTo>
                  <a:pt x="11539" y="7907"/>
                  <a:pt x="11554" y="7832"/>
                  <a:pt x="11608" y="7781"/>
                </a:cubicBezTo>
                <a:cubicBezTo>
                  <a:pt x="11640" y="7751"/>
                  <a:pt x="11675" y="7749"/>
                  <a:pt x="11715" y="7745"/>
                </a:cubicBezTo>
                <a:cubicBezTo>
                  <a:pt x="11768" y="7773"/>
                  <a:pt x="11803" y="7804"/>
                  <a:pt x="11818" y="7866"/>
                </a:cubicBezTo>
                <a:cubicBezTo>
                  <a:pt x="11836" y="7938"/>
                  <a:pt x="11813" y="8021"/>
                  <a:pt x="11783" y="8086"/>
                </a:cubicBezTo>
                <a:cubicBezTo>
                  <a:pt x="11757" y="8142"/>
                  <a:pt x="11723" y="8199"/>
                  <a:pt x="11662" y="8220"/>
                </a:cubicBezTo>
                <a:cubicBezTo>
                  <a:pt x="11633" y="8230"/>
                  <a:pt x="11598" y="8218"/>
                  <a:pt x="11585" y="8189"/>
                </a:cubicBezTo>
                <a:cubicBezTo>
                  <a:pt x="11581" y="8169"/>
                  <a:pt x="11579" y="8163"/>
                  <a:pt x="11590" y="8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nk 72"/>
          <p:cNvSpPr/>
          <p:nvPr/>
        </p:nvSpPr>
        <p:spPr>
          <a:xfrm>
            <a:off x="4132440" y="4446720"/>
            <a:ext cx="156960" cy="193680"/>
          </a:xfrm>
          <a:custGeom>
            <a:avLst/>
            <a:gdLst/>
            <a:ahLst/>
            <a:rect l="l" t="t" r="r" b="b"/>
            <a:pathLst>
              <a:path w="435" h="538">
                <a:moveTo>
                  <a:pt x="11550" y="12728"/>
                </a:moveTo>
                <a:cubicBezTo>
                  <a:pt x="11555" y="12684"/>
                  <a:pt x="11559" y="12641"/>
                  <a:pt x="11572" y="12598"/>
                </a:cubicBezTo>
                <a:cubicBezTo>
                  <a:pt x="11587" y="12550"/>
                  <a:pt x="11611" y="12510"/>
                  <a:pt x="11648" y="12477"/>
                </a:cubicBezTo>
                <a:cubicBezTo>
                  <a:pt x="11679" y="12450"/>
                  <a:pt x="11717" y="12440"/>
                  <a:pt x="11756" y="12459"/>
                </a:cubicBezTo>
                <a:cubicBezTo>
                  <a:pt x="11798" y="12480"/>
                  <a:pt x="11823" y="12529"/>
                  <a:pt x="11836" y="12571"/>
                </a:cubicBezTo>
                <a:cubicBezTo>
                  <a:pt x="11853" y="12628"/>
                  <a:pt x="11851" y="12685"/>
                  <a:pt x="11832" y="12742"/>
                </a:cubicBezTo>
                <a:cubicBezTo>
                  <a:pt x="11814" y="12794"/>
                  <a:pt x="11780" y="12842"/>
                  <a:pt x="11729" y="12867"/>
                </a:cubicBezTo>
                <a:cubicBezTo>
                  <a:pt x="11677" y="12893"/>
                  <a:pt x="11622" y="12895"/>
                  <a:pt x="11572" y="12863"/>
                </a:cubicBezTo>
                <a:cubicBezTo>
                  <a:pt x="11515" y="12826"/>
                  <a:pt x="11491" y="12766"/>
                  <a:pt x="11482" y="12701"/>
                </a:cubicBezTo>
                <a:cubicBezTo>
                  <a:pt x="11469" y="12611"/>
                  <a:pt x="11488" y="12529"/>
                  <a:pt x="11554" y="12464"/>
                </a:cubicBezTo>
                <a:cubicBezTo>
                  <a:pt x="11598" y="12421"/>
                  <a:pt x="11652" y="12390"/>
                  <a:pt x="11715" y="12406"/>
                </a:cubicBezTo>
                <a:cubicBezTo>
                  <a:pt x="11789" y="12425"/>
                  <a:pt x="11831" y="12498"/>
                  <a:pt x="11845" y="12567"/>
                </a:cubicBezTo>
                <a:cubicBezTo>
                  <a:pt x="11858" y="12630"/>
                  <a:pt x="11849" y="12692"/>
                  <a:pt x="11827" y="12751"/>
                </a:cubicBezTo>
                <a:cubicBezTo>
                  <a:pt x="11807" y="12804"/>
                  <a:pt x="11775" y="12834"/>
                  <a:pt x="11729" y="12863"/>
                </a:cubicBezTo>
                <a:cubicBezTo>
                  <a:pt x="11673" y="12863"/>
                  <a:pt x="11639" y="12847"/>
                  <a:pt x="11612" y="12791"/>
                </a:cubicBezTo>
                <a:cubicBezTo>
                  <a:pt x="11584" y="12732"/>
                  <a:pt x="11573" y="12635"/>
                  <a:pt x="11585" y="12571"/>
                </a:cubicBezTo>
                <a:cubicBezTo>
                  <a:pt x="11598" y="12502"/>
                  <a:pt x="11635" y="12436"/>
                  <a:pt x="11688" y="12392"/>
                </a:cubicBezTo>
                <a:cubicBezTo>
                  <a:pt x="11727" y="12359"/>
                  <a:pt x="11777" y="12336"/>
                  <a:pt x="11827" y="12361"/>
                </a:cubicBezTo>
                <a:cubicBezTo>
                  <a:pt x="11867" y="12381"/>
                  <a:pt x="11898" y="12431"/>
                  <a:pt x="11908" y="12473"/>
                </a:cubicBezTo>
                <a:cubicBezTo>
                  <a:pt x="11922" y="12534"/>
                  <a:pt x="11916" y="12612"/>
                  <a:pt x="11881" y="12665"/>
                </a:cubicBezTo>
                <a:cubicBezTo>
                  <a:pt x="11860" y="12697"/>
                  <a:pt x="11814" y="12726"/>
                  <a:pt x="11774" y="12715"/>
                </a:cubicBezTo>
                <a:cubicBezTo>
                  <a:pt x="11720" y="12700"/>
                  <a:pt x="11684" y="12652"/>
                  <a:pt x="11657" y="12607"/>
                </a:cubicBezTo>
                <a:cubicBezTo>
                  <a:pt x="11648" y="12593"/>
                  <a:pt x="11612" y="12506"/>
                  <a:pt x="11626" y="12486"/>
                </a:cubicBezTo>
                <a:cubicBezTo>
                  <a:pt x="11646" y="12482"/>
                  <a:pt x="11652" y="12482"/>
                  <a:pt x="11662" y="12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nk 76"/>
          <p:cNvSpPr/>
          <p:nvPr/>
        </p:nvSpPr>
        <p:spPr>
          <a:xfrm>
            <a:off x="4138560" y="4457880"/>
            <a:ext cx="111240" cy="163440"/>
          </a:xfrm>
          <a:custGeom>
            <a:avLst/>
            <a:gdLst/>
            <a:ahLst/>
            <a:rect l="l" t="t" r="r" b="b"/>
            <a:pathLst>
              <a:path w="310" h="454">
                <a:moveTo>
                  <a:pt x="11724" y="12500"/>
                </a:moveTo>
                <a:cubicBezTo>
                  <a:pt x="11723" y="12489"/>
                  <a:pt x="11720" y="12494"/>
                  <a:pt x="11724" y="12486"/>
                </a:cubicBezTo>
                <a:cubicBezTo>
                  <a:pt x="11727" y="12480"/>
                  <a:pt x="11731" y="12472"/>
                  <a:pt x="11738" y="12468"/>
                </a:cubicBezTo>
                <a:cubicBezTo>
                  <a:pt x="11749" y="12462"/>
                  <a:pt x="11756" y="12467"/>
                  <a:pt x="11769" y="12464"/>
                </a:cubicBezTo>
                <a:cubicBezTo>
                  <a:pt x="11782" y="12461"/>
                  <a:pt x="11782" y="12461"/>
                  <a:pt x="11796" y="12464"/>
                </a:cubicBezTo>
                <a:cubicBezTo>
                  <a:pt x="11801" y="12478"/>
                  <a:pt x="11808" y="12484"/>
                  <a:pt x="11805" y="12500"/>
                </a:cubicBezTo>
                <a:cubicBezTo>
                  <a:pt x="11801" y="12524"/>
                  <a:pt x="11796" y="12548"/>
                  <a:pt x="11778" y="12567"/>
                </a:cubicBezTo>
                <a:cubicBezTo>
                  <a:pt x="11759" y="12587"/>
                  <a:pt x="11732" y="12607"/>
                  <a:pt x="11706" y="12616"/>
                </a:cubicBezTo>
                <a:cubicBezTo>
                  <a:pt x="11688" y="12622"/>
                  <a:pt x="11650" y="12632"/>
                  <a:pt x="11630" y="12625"/>
                </a:cubicBezTo>
                <a:cubicBezTo>
                  <a:pt x="11617" y="12620"/>
                  <a:pt x="11604" y="12607"/>
                  <a:pt x="11594" y="12598"/>
                </a:cubicBezTo>
                <a:cubicBezTo>
                  <a:pt x="11586" y="12579"/>
                  <a:pt x="11587" y="12568"/>
                  <a:pt x="11585" y="12549"/>
                </a:cubicBezTo>
                <a:cubicBezTo>
                  <a:pt x="11583" y="12525"/>
                  <a:pt x="11591" y="12517"/>
                  <a:pt x="11603" y="12495"/>
                </a:cubicBezTo>
                <a:cubicBezTo>
                  <a:pt x="11618" y="12468"/>
                  <a:pt x="11615" y="12457"/>
                  <a:pt x="11644" y="12446"/>
                </a:cubicBezTo>
                <a:cubicBezTo>
                  <a:pt x="11664" y="12438"/>
                  <a:pt x="11680" y="12434"/>
                  <a:pt x="11702" y="12437"/>
                </a:cubicBezTo>
                <a:cubicBezTo>
                  <a:pt x="11708" y="12438"/>
                  <a:pt x="11714" y="12440"/>
                  <a:pt x="11720" y="12441"/>
                </a:cubicBezTo>
                <a:cubicBezTo>
                  <a:pt x="11736" y="12451"/>
                  <a:pt x="11768" y="12470"/>
                  <a:pt x="11774" y="12491"/>
                </a:cubicBezTo>
                <a:cubicBezTo>
                  <a:pt x="11781" y="12515"/>
                  <a:pt x="11780" y="12557"/>
                  <a:pt x="11769" y="12580"/>
                </a:cubicBezTo>
                <a:cubicBezTo>
                  <a:pt x="11758" y="12604"/>
                  <a:pt x="11725" y="12636"/>
                  <a:pt x="11702" y="12648"/>
                </a:cubicBezTo>
                <a:cubicBezTo>
                  <a:pt x="11678" y="12661"/>
                  <a:pt x="11639" y="12669"/>
                  <a:pt x="11612" y="12661"/>
                </a:cubicBezTo>
                <a:cubicBezTo>
                  <a:pt x="11583" y="12653"/>
                  <a:pt x="11556" y="12634"/>
                  <a:pt x="11536" y="12612"/>
                </a:cubicBezTo>
                <a:cubicBezTo>
                  <a:pt x="11516" y="12589"/>
                  <a:pt x="11500" y="12557"/>
                  <a:pt x="11496" y="12527"/>
                </a:cubicBezTo>
                <a:cubicBezTo>
                  <a:pt x="11491" y="12493"/>
                  <a:pt x="11510" y="12461"/>
                  <a:pt x="11532" y="12437"/>
                </a:cubicBezTo>
                <a:cubicBezTo>
                  <a:pt x="11564" y="12401"/>
                  <a:pt x="11582" y="12394"/>
                  <a:pt x="11630" y="12392"/>
                </a:cubicBezTo>
                <a:cubicBezTo>
                  <a:pt x="11673" y="12391"/>
                  <a:pt x="11707" y="12407"/>
                  <a:pt x="11738" y="12437"/>
                </a:cubicBezTo>
                <a:cubicBezTo>
                  <a:pt x="11766" y="12464"/>
                  <a:pt x="11784" y="12496"/>
                  <a:pt x="11783" y="12536"/>
                </a:cubicBezTo>
                <a:cubicBezTo>
                  <a:pt x="11782" y="12567"/>
                  <a:pt x="11774" y="12607"/>
                  <a:pt x="11751" y="12630"/>
                </a:cubicBezTo>
                <a:cubicBezTo>
                  <a:pt x="11732" y="12649"/>
                  <a:pt x="11699" y="12670"/>
                  <a:pt x="11671" y="12670"/>
                </a:cubicBezTo>
                <a:cubicBezTo>
                  <a:pt x="11641" y="12670"/>
                  <a:pt x="11606" y="12655"/>
                  <a:pt x="11581" y="12639"/>
                </a:cubicBezTo>
                <a:cubicBezTo>
                  <a:pt x="11557" y="12623"/>
                  <a:pt x="11535" y="12585"/>
                  <a:pt x="11527" y="12558"/>
                </a:cubicBezTo>
                <a:cubicBezTo>
                  <a:pt x="11517" y="12526"/>
                  <a:pt x="11519" y="12481"/>
                  <a:pt x="11532" y="12450"/>
                </a:cubicBezTo>
                <a:cubicBezTo>
                  <a:pt x="11547" y="12413"/>
                  <a:pt x="11565" y="12398"/>
                  <a:pt x="11599" y="12383"/>
                </a:cubicBezTo>
                <a:cubicBezTo>
                  <a:pt x="11633" y="12390"/>
                  <a:pt x="11671" y="12396"/>
                  <a:pt x="11697" y="12423"/>
                </a:cubicBezTo>
                <a:cubicBezTo>
                  <a:pt x="11725" y="12451"/>
                  <a:pt x="11757" y="12501"/>
                  <a:pt x="11765" y="12540"/>
                </a:cubicBezTo>
                <a:cubicBezTo>
                  <a:pt x="11772" y="12576"/>
                  <a:pt x="11764" y="12623"/>
                  <a:pt x="11747" y="12656"/>
                </a:cubicBezTo>
                <a:cubicBezTo>
                  <a:pt x="11729" y="12691"/>
                  <a:pt x="11701" y="12719"/>
                  <a:pt x="11666" y="12737"/>
                </a:cubicBezTo>
                <a:cubicBezTo>
                  <a:pt x="11635" y="12753"/>
                  <a:pt x="11607" y="12746"/>
                  <a:pt x="11576" y="12737"/>
                </a:cubicBezTo>
                <a:cubicBezTo>
                  <a:pt x="11547" y="12714"/>
                  <a:pt x="11528" y="12687"/>
                  <a:pt x="11523" y="12648"/>
                </a:cubicBezTo>
                <a:cubicBezTo>
                  <a:pt x="11516" y="12600"/>
                  <a:pt x="11524" y="12553"/>
                  <a:pt x="11541" y="12509"/>
                </a:cubicBezTo>
                <a:cubicBezTo>
                  <a:pt x="11556" y="12470"/>
                  <a:pt x="11577" y="12449"/>
                  <a:pt x="11608" y="12423"/>
                </a:cubicBezTo>
                <a:cubicBezTo>
                  <a:pt x="11655" y="12429"/>
                  <a:pt x="11681" y="12446"/>
                  <a:pt x="11715" y="12482"/>
                </a:cubicBezTo>
                <a:cubicBezTo>
                  <a:pt x="11750" y="12519"/>
                  <a:pt x="11775" y="12572"/>
                  <a:pt x="11787" y="12621"/>
                </a:cubicBezTo>
                <a:cubicBezTo>
                  <a:pt x="11798" y="12666"/>
                  <a:pt x="11793" y="12710"/>
                  <a:pt x="11774" y="12751"/>
                </a:cubicBezTo>
                <a:cubicBezTo>
                  <a:pt x="11757" y="12787"/>
                  <a:pt x="11726" y="12818"/>
                  <a:pt x="11688" y="12831"/>
                </a:cubicBezTo>
                <a:cubicBezTo>
                  <a:pt x="11651" y="12844"/>
                  <a:pt x="11607" y="12836"/>
                  <a:pt x="11576" y="12813"/>
                </a:cubicBezTo>
                <a:cubicBezTo>
                  <a:pt x="11526" y="12776"/>
                  <a:pt x="11508" y="12711"/>
                  <a:pt x="11505" y="12652"/>
                </a:cubicBezTo>
                <a:cubicBezTo>
                  <a:pt x="11502" y="12593"/>
                  <a:pt x="11519" y="12543"/>
                  <a:pt x="11545" y="12491"/>
                </a:cubicBezTo>
                <a:cubicBezTo>
                  <a:pt x="11567" y="12447"/>
                  <a:pt x="11604" y="12420"/>
                  <a:pt x="11653" y="12415"/>
                </a:cubicBezTo>
                <a:cubicBezTo>
                  <a:pt x="11703" y="12410"/>
                  <a:pt x="11735" y="12438"/>
                  <a:pt x="11765" y="12473"/>
                </a:cubicBezTo>
                <a:cubicBezTo>
                  <a:pt x="11798" y="12511"/>
                  <a:pt x="11801" y="12546"/>
                  <a:pt x="11796" y="12594"/>
                </a:cubicBezTo>
                <a:cubicBezTo>
                  <a:pt x="11792" y="12638"/>
                  <a:pt x="11767" y="12678"/>
                  <a:pt x="11733" y="12706"/>
                </a:cubicBezTo>
                <a:cubicBezTo>
                  <a:pt x="11701" y="12733"/>
                  <a:pt x="11661" y="12741"/>
                  <a:pt x="11621" y="12728"/>
                </a:cubicBezTo>
                <a:cubicBezTo>
                  <a:pt x="11582" y="12715"/>
                  <a:pt x="11552" y="12675"/>
                  <a:pt x="11536" y="12639"/>
                </a:cubicBezTo>
                <a:cubicBezTo>
                  <a:pt x="11524" y="12614"/>
                  <a:pt x="11529" y="12575"/>
                  <a:pt x="11541" y="12549"/>
                </a:cubicBezTo>
                <a:cubicBezTo>
                  <a:pt x="11545" y="12543"/>
                  <a:pt x="11550" y="12537"/>
                  <a:pt x="11554" y="12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nk 77"/>
          <p:cNvSpPr/>
          <p:nvPr/>
        </p:nvSpPr>
        <p:spPr>
          <a:xfrm>
            <a:off x="4303800" y="1374840"/>
            <a:ext cx="3316320" cy="1511280"/>
          </a:xfrm>
          <a:custGeom>
            <a:avLst/>
            <a:gdLst/>
            <a:ahLst/>
            <a:rect l="l" t="t" r="r" b="b"/>
            <a:pathLst>
              <a:path w="8984" h="4092">
                <a:moveTo>
                  <a:pt x="11953" y="8010"/>
                </a:moveTo>
                <a:cubicBezTo>
                  <a:pt x="11953" y="8008"/>
                  <a:pt x="11951" y="7955"/>
                  <a:pt x="11957" y="7929"/>
                </a:cubicBezTo>
                <a:cubicBezTo>
                  <a:pt x="11961" y="7913"/>
                  <a:pt x="11956" y="7888"/>
                  <a:pt x="11962" y="7871"/>
                </a:cubicBezTo>
                <a:cubicBezTo>
                  <a:pt x="12020" y="7711"/>
                  <a:pt x="12113" y="7596"/>
                  <a:pt x="12226" y="7468"/>
                </a:cubicBezTo>
                <a:cubicBezTo>
                  <a:pt x="12427" y="7240"/>
                  <a:pt x="12707" y="6948"/>
                  <a:pt x="13037" y="6993"/>
                </a:cubicBezTo>
                <a:cubicBezTo>
                  <a:pt x="13344" y="7035"/>
                  <a:pt x="13663" y="7217"/>
                  <a:pt x="13973" y="7288"/>
                </a:cubicBezTo>
                <a:cubicBezTo>
                  <a:pt x="14177" y="7335"/>
                  <a:pt x="14394" y="7367"/>
                  <a:pt x="14605" y="7356"/>
                </a:cubicBezTo>
                <a:cubicBezTo>
                  <a:pt x="14881" y="7341"/>
                  <a:pt x="15073" y="7247"/>
                  <a:pt x="15255" y="7046"/>
                </a:cubicBezTo>
                <a:cubicBezTo>
                  <a:pt x="15550" y="6721"/>
                  <a:pt x="15694" y="6277"/>
                  <a:pt x="15954" y="5926"/>
                </a:cubicBezTo>
                <a:cubicBezTo>
                  <a:pt x="16146" y="5667"/>
                  <a:pt x="16375" y="5422"/>
                  <a:pt x="16603" y="5196"/>
                </a:cubicBezTo>
                <a:cubicBezTo>
                  <a:pt x="16769" y="5032"/>
                  <a:pt x="16996" y="4846"/>
                  <a:pt x="17204" y="4743"/>
                </a:cubicBezTo>
                <a:cubicBezTo>
                  <a:pt x="17381" y="4656"/>
                  <a:pt x="17550" y="4625"/>
                  <a:pt x="17741" y="4653"/>
                </a:cubicBezTo>
                <a:cubicBezTo>
                  <a:pt x="17990" y="4690"/>
                  <a:pt x="18257" y="4769"/>
                  <a:pt x="18458" y="4913"/>
                </a:cubicBezTo>
                <a:cubicBezTo>
                  <a:pt x="18567" y="4991"/>
                  <a:pt x="18661" y="5079"/>
                  <a:pt x="18776" y="5151"/>
                </a:cubicBezTo>
                <a:cubicBezTo>
                  <a:pt x="19036" y="5313"/>
                  <a:pt x="19243" y="5292"/>
                  <a:pt x="19524" y="5191"/>
                </a:cubicBezTo>
                <a:cubicBezTo>
                  <a:pt x="19832" y="5080"/>
                  <a:pt x="20169" y="4881"/>
                  <a:pt x="20420" y="4667"/>
                </a:cubicBezTo>
                <a:cubicBezTo>
                  <a:pt x="20563" y="4545"/>
                  <a:pt x="20705" y="4371"/>
                  <a:pt x="20801" y="4205"/>
                </a:cubicBezTo>
                <a:cubicBezTo>
                  <a:pt x="20850" y="4120"/>
                  <a:pt x="20895" y="3997"/>
                  <a:pt x="20931" y="3923"/>
                </a:cubicBezTo>
                <a:cubicBezTo>
                  <a:pt x="20929" y="3927"/>
                  <a:pt x="20933" y="3929"/>
                  <a:pt x="20927" y="3941"/>
                </a:cubicBezTo>
                <a:cubicBezTo>
                  <a:pt x="20925" y="3941"/>
                  <a:pt x="20924" y="3941"/>
                  <a:pt x="20922" y="3941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nk 78"/>
          <p:cNvSpPr/>
          <p:nvPr/>
        </p:nvSpPr>
        <p:spPr>
          <a:xfrm>
            <a:off x="4300560" y="1521000"/>
            <a:ext cx="3197160" cy="2965320"/>
          </a:xfrm>
          <a:custGeom>
            <a:avLst/>
            <a:gdLst/>
            <a:ahLst/>
            <a:rect l="l" t="t" r="r" b="b"/>
            <a:pathLst>
              <a:path w="8881" h="8237">
                <a:moveTo>
                  <a:pt x="11966" y="12423"/>
                </a:moveTo>
                <a:cubicBezTo>
                  <a:pt x="11964" y="12435"/>
                  <a:pt x="11963" y="12446"/>
                  <a:pt x="11962" y="12459"/>
                </a:cubicBezTo>
                <a:cubicBezTo>
                  <a:pt x="11963" y="12417"/>
                  <a:pt x="11935" y="12336"/>
                  <a:pt x="11944" y="12276"/>
                </a:cubicBezTo>
                <a:cubicBezTo>
                  <a:pt x="11974" y="12078"/>
                  <a:pt x="12018" y="11846"/>
                  <a:pt x="12145" y="11680"/>
                </a:cubicBezTo>
                <a:cubicBezTo>
                  <a:pt x="12296" y="11483"/>
                  <a:pt x="12452" y="11444"/>
                  <a:pt x="12674" y="11527"/>
                </a:cubicBezTo>
                <a:cubicBezTo>
                  <a:pt x="12864" y="11598"/>
                  <a:pt x="12945" y="11785"/>
                  <a:pt x="13131" y="11872"/>
                </a:cubicBezTo>
                <a:cubicBezTo>
                  <a:pt x="13480" y="12034"/>
                  <a:pt x="13755" y="11867"/>
                  <a:pt x="13978" y="11586"/>
                </a:cubicBezTo>
                <a:cubicBezTo>
                  <a:pt x="14169" y="11346"/>
                  <a:pt x="14172" y="11129"/>
                  <a:pt x="14242" y="10851"/>
                </a:cubicBezTo>
                <a:cubicBezTo>
                  <a:pt x="14323" y="10531"/>
                  <a:pt x="14398" y="10161"/>
                  <a:pt x="14524" y="9860"/>
                </a:cubicBezTo>
                <a:cubicBezTo>
                  <a:pt x="14635" y="9594"/>
                  <a:pt x="14861" y="9328"/>
                  <a:pt x="15053" y="9117"/>
                </a:cubicBezTo>
                <a:cubicBezTo>
                  <a:pt x="15263" y="8886"/>
                  <a:pt x="15492" y="8703"/>
                  <a:pt x="15806" y="8682"/>
                </a:cubicBezTo>
                <a:cubicBezTo>
                  <a:pt x="16095" y="8663"/>
                  <a:pt x="16360" y="8834"/>
                  <a:pt x="16639" y="8839"/>
                </a:cubicBezTo>
                <a:cubicBezTo>
                  <a:pt x="17029" y="8846"/>
                  <a:pt x="17540" y="8605"/>
                  <a:pt x="17602" y="8184"/>
                </a:cubicBezTo>
                <a:cubicBezTo>
                  <a:pt x="17663" y="7768"/>
                  <a:pt x="17479" y="7482"/>
                  <a:pt x="17679" y="7069"/>
                </a:cubicBezTo>
                <a:cubicBezTo>
                  <a:pt x="17821" y="6776"/>
                  <a:pt x="18031" y="6531"/>
                  <a:pt x="18333" y="6401"/>
                </a:cubicBezTo>
                <a:cubicBezTo>
                  <a:pt x="18668" y="6258"/>
                  <a:pt x="18892" y="6402"/>
                  <a:pt x="19215" y="6392"/>
                </a:cubicBezTo>
                <a:cubicBezTo>
                  <a:pt x="19484" y="6384"/>
                  <a:pt x="19672" y="6214"/>
                  <a:pt x="19878" y="6056"/>
                </a:cubicBezTo>
                <a:cubicBezTo>
                  <a:pt x="20070" y="5909"/>
                  <a:pt x="20230" y="5765"/>
                  <a:pt x="20340" y="5550"/>
                </a:cubicBezTo>
                <a:cubicBezTo>
                  <a:pt x="20475" y="5287"/>
                  <a:pt x="20566" y="4972"/>
                  <a:pt x="20671" y="4694"/>
                </a:cubicBezTo>
                <a:cubicBezTo>
                  <a:pt x="20728" y="4542"/>
                  <a:pt x="20776" y="4367"/>
                  <a:pt x="20819" y="4223"/>
                </a:cubicBezTo>
                <a:cubicBezTo>
                  <a:pt x="20818" y="4230"/>
                  <a:pt x="20808" y="4250"/>
                  <a:pt x="20806" y="4264"/>
                </a:cubicBezTo>
                <a:cubicBezTo>
                  <a:pt x="20806" y="4276"/>
                  <a:pt x="20806" y="4282"/>
                  <a:pt x="20806" y="4291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85"/>
          <p:cNvSpPr/>
          <p:nvPr/>
        </p:nvSpPr>
        <p:spPr>
          <a:xfrm>
            <a:off x="4262400" y="4017960"/>
            <a:ext cx="1133640" cy="1050840"/>
          </a:xfrm>
          <a:custGeom>
            <a:avLst/>
            <a:gdLst/>
            <a:ahLst/>
            <a:rect l="l" t="t" r="r" b="b"/>
            <a:pathLst>
              <a:path w="3146" h="2918">
                <a:moveTo>
                  <a:pt x="12849" y="12510"/>
                </a:moveTo>
                <a:cubicBezTo>
                  <a:pt x="12845" y="12504"/>
                  <a:pt x="12851" y="12514"/>
                  <a:pt x="12844" y="12505"/>
                </a:cubicBezTo>
                <a:cubicBezTo>
                  <a:pt x="12841" y="12501"/>
                  <a:pt x="12842" y="12496"/>
                  <a:pt x="12835" y="12492"/>
                </a:cubicBezTo>
                <a:cubicBezTo>
                  <a:pt x="12829" y="12488"/>
                  <a:pt x="12822" y="12486"/>
                  <a:pt x="12817" y="12483"/>
                </a:cubicBezTo>
                <a:cubicBezTo>
                  <a:pt x="12816" y="12493"/>
                  <a:pt x="12813" y="12506"/>
                  <a:pt x="12813" y="12519"/>
                </a:cubicBezTo>
                <a:cubicBezTo>
                  <a:pt x="12813" y="12556"/>
                  <a:pt x="12814" y="12594"/>
                  <a:pt x="12817" y="12631"/>
                </a:cubicBezTo>
                <a:cubicBezTo>
                  <a:pt x="12823" y="12699"/>
                  <a:pt x="12827" y="12769"/>
                  <a:pt x="12835" y="12837"/>
                </a:cubicBezTo>
                <a:cubicBezTo>
                  <a:pt x="12844" y="12917"/>
                  <a:pt x="12867" y="12994"/>
                  <a:pt x="12876" y="13074"/>
                </a:cubicBezTo>
                <a:cubicBezTo>
                  <a:pt x="12882" y="13127"/>
                  <a:pt x="12893" y="13175"/>
                  <a:pt x="12903" y="13227"/>
                </a:cubicBezTo>
                <a:cubicBezTo>
                  <a:pt x="12906" y="13242"/>
                  <a:pt x="12906" y="13220"/>
                  <a:pt x="12903" y="13235"/>
                </a:cubicBezTo>
                <a:cubicBezTo>
                  <a:pt x="12892" y="13197"/>
                  <a:pt x="12884" y="13159"/>
                  <a:pt x="12876" y="13119"/>
                </a:cubicBezTo>
                <a:cubicBezTo>
                  <a:pt x="12862" y="13050"/>
                  <a:pt x="12852" y="12978"/>
                  <a:pt x="12844" y="12908"/>
                </a:cubicBezTo>
                <a:cubicBezTo>
                  <a:pt x="12836" y="12839"/>
                  <a:pt x="12826" y="12771"/>
                  <a:pt x="12817" y="12702"/>
                </a:cubicBezTo>
                <a:cubicBezTo>
                  <a:pt x="12811" y="12656"/>
                  <a:pt x="12803" y="12608"/>
                  <a:pt x="12791" y="12563"/>
                </a:cubicBezTo>
                <a:cubicBezTo>
                  <a:pt x="12783" y="12534"/>
                  <a:pt x="12772" y="12507"/>
                  <a:pt x="12764" y="12478"/>
                </a:cubicBezTo>
                <a:cubicBezTo>
                  <a:pt x="12761" y="12466"/>
                  <a:pt x="12758" y="12454"/>
                  <a:pt x="12755" y="12442"/>
                </a:cubicBezTo>
                <a:cubicBezTo>
                  <a:pt x="12769" y="12452"/>
                  <a:pt x="12785" y="12464"/>
                  <a:pt x="12800" y="12474"/>
                </a:cubicBezTo>
                <a:cubicBezTo>
                  <a:pt x="12840" y="12499"/>
                  <a:pt x="12876" y="12529"/>
                  <a:pt x="12916" y="12554"/>
                </a:cubicBezTo>
                <a:cubicBezTo>
                  <a:pt x="12966" y="12586"/>
                  <a:pt x="13023" y="12610"/>
                  <a:pt x="13077" y="12635"/>
                </a:cubicBezTo>
                <a:cubicBezTo>
                  <a:pt x="13124" y="12657"/>
                  <a:pt x="13172" y="12669"/>
                  <a:pt x="13221" y="12684"/>
                </a:cubicBezTo>
                <a:cubicBezTo>
                  <a:pt x="13248" y="12692"/>
                  <a:pt x="13276" y="12697"/>
                  <a:pt x="13301" y="12711"/>
                </a:cubicBezTo>
                <a:cubicBezTo>
                  <a:pt x="13304" y="12714"/>
                  <a:pt x="13307" y="12717"/>
                  <a:pt x="13310" y="12720"/>
                </a:cubicBezTo>
                <a:cubicBezTo>
                  <a:pt x="13305" y="12742"/>
                  <a:pt x="13303" y="12762"/>
                  <a:pt x="13288" y="12787"/>
                </a:cubicBezTo>
                <a:cubicBezTo>
                  <a:pt x="13260" y="12831"/>
                  <a:pt x="13221" y="12872"/>
                  <a:pt x="13189" y="12913"/>
                </a:cubicBezTo>
                <a:cubicBezTo>
                  <a:pt x="13137" y="12979"/>
                  <a:pt x="13086" y="13045"/>
                  <a:pt x="13033" y="13110"/>
                </a:cubicBezTo>
                <a:cubicBezTo>
                  <a:pt x="13006" y="13143"/>
                  <a:pt x="12978" y="13172"/>
                  <a:pt x="12947" y="13200"/>
                </a:cubicBezTo>
                <a:cubicBezTo>
                  <a:pt x="12937" y="13208"/>
                  <a:pt x="12931" y="13210"/>
                  <a:pt x="12921" y="13218"/>
                </a:cubicBezTo>
                <a:cubicBezTo>
                  <a:pt x="12934" y="13197"/>
                  <a:pt x="12952" y="13186"/>
                  <a:pt x="12965" y="13168"/>
                </a:cubicBezTo>
                <a:cubicBezTo>
                  <a:pt x="12979" y="13137"/>
                  <a:pt x="12984" y="13126"/>
                  <a:pt x="13001" y="13110"/>
                </a:cubicBezTo>
              </a:path>
              <a:path w="3146" h="2918">
                <a:moveTo>
                  <a:pt x="13292" y="12236"/>
                </a:moveTo>
                <a:cubicBezTo>
                  <a:pt x="13280" y="12220"/>
                  <a:pt x="13271" y="12197"/>
                  <a:pt x="13266" y="12187"/>
                </a:cubicBezTo>
                <a:cubicBezTo>
                  <a:pt x="13264" y="12185"/>
                  <a:pt x="13263" y="12184"/>
                  <a:pt x="13261" y="12182"/>
                </a:cubicBezTo>
                <a:cubicBezTo>
                  <a:pt x="13269" y="12184"/>
                  <a:pt x="13275" y="12184"/>
                  <a:pt x="13283" y="12187"/>
                </a:cubicBezTo>
                <a:cubicBezTo>
                  <a:pt x="13288" y="12189"/>
                  <a:pt x="13299" y="12198"/>
                  <a:pt x="13301" y="12200"/>
                </a:cubicBezTo>
                <a:cubicBezTo>
                  <a:pt x="13304" y="12202"/>
                  <a:pt x="13312" y="12204"/>
                  <a:pt x="13315" y="12209"/>
                </a:cubicBezTo>
                <a:cubicBezTo>
                  <a:pt x="13328" y="12232"/>
                  <a:pt x="13336" y="12264"/>
                  <a:pt x="13342" y="12290"/>
                </a:cubicBezTo>
                <a:cubicBezTo>
                  <a:pt x="13354" y="12339"/>
                  <a:pt x="13376" y="12386"/>
                  <a:pt x="13395" y="12433"/>
                </a:cubicBezTo>
                <a:cubicBezTo>
                  <a:pt x="13421" y="12499"/>
                  <a:pt x="13460" y="12560"/>
                  <a:pt x="13494" y="12622"/>
                </a:cubicBezTo>
                <a:cubicBezTo>
                  <a:pt x="13524" y="12676"/>
                  <a:pt x="13561" y="12724"/>
                  <a:pt x="13597" y="12774"/>
                </a:cubicBezTo>
                <a:cubicBezTo>
                  <a:pt x="13612" y="12794"/>
                  <a:pt x="13622" y="12809"/>
                  <a:pt x="13642" y="12819"/>
                </a:cubicBezTo>
                <a:cubicBezTo>
                  <a:pt x="13643" y="12819"/>
                  <a:pt x="13645" y="12819"/>
                  <a:pt x="13646" y="12819"/>
                </a:cubicBezTo>
                <a:cubicBezTo>
                  <a:pt x="13650" y="12806"/>
                  <a:pt x="13655" y="12792"/>
                  <a:pt x="13660" y="12778"/>
                </a:cubicBezTo>
                <a:cubicBezTo>
                  <a:pt x="13671" y="12744"/>
                  <a:pt x="13684" y="12712"/>
                  <a:pt x="13700" y="12680"/>
                </a:cubicBezTo>
                <a:cubicBezTo>
                  <a:pt x="13714" y="12652"/>
                  <a:pt x="13736" y="12634"/>
                  <a:pt x="13758" y="12613"/>
                </a:cubicBezTo>
                <a:cubicBezTo>
                  <a:pt x="13788" y="12585"/>
                  <a:pt x="13818" y="12560"/>
                  <a:pt x="13848" y="12532"/>
                </a:cubicBezTo>
                <a:cubicBezTo>
                  <a:pt x="13881" y="12501"/>
                  <a:pt x="13919" y="12475"/>
                  <a:pt x="13951" y="12442"/>
                </a:cubicBezTo>
                <a:cubicBezTo>
                  <a:pt x="13971" y="12421"/>
                  <a:pt x="13989" y="12396"/>
                  <a:pt x="14014" y="12380"/>
                </a:cubicBezTo>
                <a:cubicBezTo>
                  <a:pt x="14022" y="12375"/>
                  <a:pt x="14029" y="12375"/>
                  <a:pt x="14036" y="12371"/>
                </a:cubicBezTo>
                <a:cubicBezTo>
                  <a:pt x="14037" y="12381"/>
                  <a:pt x="14030" y="12372"/>
                  <a:pt x="14036" y="12384"/>
                </a:cubicBezTo>
                <a:cubicBezTo>
                  <a:pt x="14038" y="12386"/>
                  <a:pt x="14039" y="12387"/>
                  <a:pt x="14041" y="12389"/>
                </a:cubicBezTo>
              </a:path>
              <a:path w="3146" h="2918">
                <a:moveTo>
                  <a:pt x="13866" y="12106"/>
                </a:moveTo>
                <a:cubicBezTo>
                  <a:pt x="13856" y="12112"/>
                  <a:pt x="13844" y="12115"/>
                  <a:pt x="13834" y="12124"/>
                </a:cubicBezTo>
                <a:cubicBezTo>
                  <a:pt x="13827" y="12130"/>
                  <a:pt x="13813" y="12146"/>
                  <a:pt x="13812" y="12147"/>
                </a:cubicBezTo>
                <a:cubicBezTo>
                  <a:pt x="13802" y="12152"/>
                  <a:pt x="13800" y="12147"/>
                  <a:pt x="13794" y="12156"/>
                </a:cubicBezTo>
                <a:cubicBezTo>
                  <a:pt x="13789" y="12156"/>
                  <a:pt x="13789" y="12156"/>
                  <a:pt x="13794" y="12160"/>
                </a:cubicBezTo>
                <a:cubicBezTo>
                  <a:pt x="13801" y="12156"/>
                  <a:pt x="13802" y="12161"/>
                  <a:pt x="13808" y="12156"/>
                </a:cubicBezTo>
                <a:cubicBezTo>
                  <a:pt x="13830" y="12139"/>
                  <a:pt x="13854" y="12120"/>
                  <a:pt x="13875" y="12102"/>
                </a:cubicBezTo>
                <a:cubicBezTo>
                  <a:pt x="13921" y="12062"/>
                  <a:pt x="13962" y="12020"/>
                  <a:pt x="14005" y="11976"/>
                </a:cubicBezTo>
                <a:cubicBezTo>
                  <a:pt x="14051" y="11930"/>
                  <a:pt x="14095" y="11884"/>
                  <a:pt x="14135" y="11833"/>
                </a:cubicBezTo>
                <a:cubicBezTo>
                  <a:pt x="14163" y="11798"/>
                  <a:pt x="14190" y="11763"/>
                  <a:pt x="14220" y="11730"/>
                </a:cubicBezTo>
                <a:cubicBezTo>
                  <a:pt x="14232" y="11717"/>
                  <a:pt x="14245" y="11701"/>
                  <a:pt x="14260" y="11694"/>
                </a:cubicBezTo>
                <a:cubicBezTo>
                  <a:pt x="14268" y="11690"/>
                  <a:pt x="14275" y="11693"/>
                  <a:pt x="14283" y="11690"/>
                </a:cubicBezTo>
                <a:cubicBezTo>
                  <a:pt x="14290" y="11687"/>
                  <a:pt x="14301" y="11681"/>
                  <a:pt x="14309" y="11676"/>
                </a:cubicBezTo>
                <a:cubicBezTo>
                  <a:pt x="14316" y="11672"/>
                  <a:pt x="14327" y="11665"/>
                  <a:pt x="14336" y="11658"/>
                </a:cubicBezTo>
                <a:cubicBezTo>
                  <a:pt x="14345" y="11652"/>
                  <a:pt x="14354" y="11644"/>
                  <a:pt x="14363" y="11640"/>
                </a:cubicBezTo>
                <a:cubicBezTo>
                  <a:pt x="14370" y="11637"/>
                  <a:pt x="14374" y="11633"/>
                  <a:pt x="14377" y="11631"/>
                </a:cubicBezTo>
                <a:cubicBezTo>
                  <a:pt x="14367" y="11624"/>
                  <a:pt x="14377" y="11634"/>
                  <a:pt x="14368" y="11627"/>
                </a:cubicBezTo>
                <a:cubicBezTo>
                  <a:pt x="14366" y="11625"/>
                  <a:pt x="14365" y="11624"/>
                  <a:pt x="14363" y="11622"/>
                </a:cubicBezTo>
              </a:path>
              <a:path w="3146" h="2918">
                <a:moveTo>
                  <a:pt x="14184" y="11483"/>
                </a:moveTo>
                <a:cubicBezTo>
                  <a:pt x="14176" y="11499"/>
                  <a:pt x="14184" y="11483"/>
                  <a:pt x="14184" y="11492"/>
                </a:cubicBezTo>
                <a:cubicBezTo>
                  <a:pt x="14193" y="11486"/>
                  <a:pt x="14171" y="11490"/>
                  <a:pt x="14202" y="11488"/>
                </a:cubicBezTo>
                <a:cubicBezTo>
                  <a:pt x="14221" y="11487"/>
                  <a:pt x="14250" y="11480"/>
                  <a:pt x="14269" y="11474"/>
                </a:cubicBezTo>
                <a:cubicBezTo>
                  <a:pt x="14303" y="11463"/>
                  <a:pt x="14339" y="11456"/>
                  <a:pt x="14372" y="11443"/>
                </a:cubicBezTo>
                <a:cubicBezTo>
                  <a:pt x="14405" y="11430"/>
                  <a:pt x="14436" y="11408"/>
                  <a:pt x="14471" y="11403"/>
                </a:cubicBezTo>
                <a:cubicBezTo>
                  <a:pt x="14505" y="11398"/>
                  <a:pt x="14506" y="11414"/>
                  <a:pt x="14507" y="11443"/>
                </a:cubicBezTo>
                <a:cubicBezTo>
                  <a:pt x="14508" y="11507"/>
                  <a:pt x="14481" y="11560"/>
                  <a:pt x="14457" y="11618"/>
                </a:cubicBezTo>
                <a:cubicBezTo>
                  <a:pt x="14429" y="11686"/>
                  <a:pt x="14393" y="11747"/>
                  <a:pt x="14359" y="11811"/>
                </a:cubicBezTo>
                <a:cubicBezTo>
                  <a:pt x="14341" y="11844"/>
                  <a:pt x="14323" y="11878"/>
                  <a:pt x="14291" y="11900"/>
                </a:cubicBezTo>
                <a:cubicBezTo>
                  <a:pt x="14287" y="11902"/>
                  <a:pt x="14282" y="11903"/>
                  <a:pt x="14278" y="11905"/>
                </a:cubicBezTo>
              </a:path>
              <a:path w="3146" h="2918">
                <a:moveTo>
                  <a:pt x="12181" y="13365"/>
                </a:moveTo>
                <a:cubicBezTo>
                  <a:pt x="12174" y="13379"/>
                  <a:pt x="12168" y="13392"/>
                  <a:pt x="12163" y="13406"/>
                </a:cubicBezTo>
                <a:cubicBezTo>
                  <a:pt x="12170" y="13402"/>
                  <a:pt x="12162" y="13411"/>
                  <a:pt x="12168" y="13406"/>
                </a:cubicBezTo>
                <a:cubicBezTo>
                  <a:pt x="12183" y="13394"/>
                  <a:pt x="12199" y="13371"/>
                  <a:pt x="12217" y="13356"/>
                </a:cubicBezTo>
                <a:cubicBezTo>
                  <a:pt x="12261" y="13319"/>
                  <a:pt x="12305" y="13282"/>
                  <a:pt x="12347" y="13244"/>
                </a:cubicBezTo>
                <a:cubicBezTo>
                  <a:pt x="12397" y="13199"/>
                  <a:pt x="12452" y="13159"/>
                  <a:pt x="12499" y="13110"/>
                </a:cubicBezTo>
                <a:cubicBezTo>
                  <a:pt x="12526" y="13082"/>
                  <a:pt x="12553" y="13057"/>
                  <a:pt x="12580" y="13029"/>
                </a:cubicBezTo>
                <a:cubicBezTo>
                  <a:pt x="12588" y="13020"/>
                  <a:pt x="12590" y="13017"/>
                  <a:pt x="12593" y="13007"/>
                </a:cubicBezTo>
                <a:cubicBezTo>
                  <a:pt x="12592" y="13007"/>
                  <a:pt x="12590" y="13007"/>
                  <a:pt x="12589" y="13007"/>
                </a:cubicBezTo>
                <a:cubicBezTo>
                  <a:pt x="12587" y="13010"/>
                  <a:pt x="12580" y="13019"/>
                  <a:pt x="12576" y="13025"/>
                </a:cubicBezTo>
                <a:cubicBezTo>
                  <a:pt x="12567" y="13038"/>
                  <a:pt x="12555" y="13054"/>
                  <a:pt x="12544" y="13065"/>
                </a:cubicBezTo>
                <a:cubicBezTo>
                  <a:pt x="12526" y="13083"/>
                  <a:pt x="12502" y="13109"/>
                  <a:pt x="12481" y="13123"/>
                </a:cubicBezTo>
                <a:cubicBezTo>
                  <a:pt x="12458" y="13139"/>
                  <a:pt x="12439" y="13152"/>
                  <a:pt x="12419" y="13168"/>
                </a:cubicBezTo>
                <a:cubicBezTo>
                  <a:pt x="12392" y="13190"/>
                  <a:pt x="12364" y="13208"/>
                  <a:pt x="12334" y="13227"/>
                </a:cubicBezTo>
                <a:cubicBezTo>
                  <a:pt x="12301" y="13248"/>
                  <a:pt x="12267" y="13268"/>
                  <a:pt x="12235" y="13289"/>
                </a:cubicBezTo>
                <a:cubicBezTo>
                  <a:pt x="12215" y="13302"/>
                  <a:pt x="12199" y="13315"/>
                  <a:pt x="12177" y="13325"/>
                </a:cubicBezTo>
                <a:cubicBezTo>
                  <a:pt x="12155" y="13336"/>
                  <a:pt x="12131" y="13341"/>
                  <a:pt x="12114" y="13361"/>
                </a:cubicBezTo>
                <a:cubicBezTo>
                  <a:pt x="12103" y="13373"/>
                  <a:pt x="12094" y="13391"/>
                  <a:pt x="12087" y="13401"/>
                </a:cubicBezTo>
                <a:cubicBezTo>
                  <a:pt x="12079" y="13412"/>
                  <a:pt x="12074" y="13416"/>
                  <a:pt x="12065" y="13424"/>
                </a:cubicBezTo>
                <a:cubicBezTo>
                  <a:pt x="12063" y="13424"/>
                  <a:pt x="12062" y="13424"/>
                  <a:pt x="12060" y="13424"/>
                </a:cubicBezTo>
                <a:cubicBezTo>
                  <a:pt x="12061" y="13408"/>
                  <a:pt x="12063" y="13395"/>
                  <a:pt x="12065" y="13379"/>
                </a:cubicBezTo>
                <a:cubicBezTo>
                  <a:pt x="12070" y="13344"/>
                  <a:pt x="12085" y="13310"/>
                  <a:pt x="12096" y="13276"/>
                </a:cubicBezTo>
                <a:cubicBezTo>
                  <a:pt x="12107" y="13241"/>
                  <a:pt x="12128" y="13211"/>
                  <a:pt x="12141" y="13177"/>
                </a:cubicBezTo>
                <a:cubicBezTo>
                  <a:pt x="12146" y="13164"/>
                  <a:pt x="12149" y="13153"/>
                  <a:pt x="12154" y="13141"/>
                </a:cubicBezTo>
                <a:cubicBezTo>
                  <a:pt x="12152" y="13150"/>
                  <a:pt x="12154" y="13147"/>
                  <a:pt x="12150" y="13155"/>
                </a:cubicBezTo>
                <a:cubicBezTo>
                  <a:pt x="12138" y="13179"/>
                  <a:pt x="12128" y="13202"/>
                  <a:pt x="12119" y="13227"/>
                </a:cubicBezTo>
                <a:cubicBezTo>
                  <a:pt x="12104" y="13270"/>
                  <a:pt x="12088" y="13312"/>
                  <a:pt x="12074" y="13356"/>
                </a:cubicBezTo>
                <a:cubicBezTo>
                  <a:pt x="12059" y="13401"/>
                  <a:pt x="12048" y="13445"/>
                  <a:pt x="12038" y="13491"/>
                </a:cubicBezTo>
                <a:cubicBezTo>
                  <a:pt x="12033" y="13514"/>
                  <a:pt x="12030" y="13534"/>
                  <a:pt x="12038" y="13554"/>
                </a:cubicBezTo>
                <a:cubicBezTo>
                  <a:pt x="12039" y="13555"/>
                  <a:pt x="12041" y="13557"/>
                  <a:pt x="12042" y="13558"/>
                </a:cubicBezTo>
                <a:cubicBezTo>
                  <a:pt x="12066" y="13557"/>
                  <a:pt x="12082" y="13553"/>
                  <a:pt x="12105" y="13545"/>
                </a:cubicBezTo>
                <a:cubicBezTo>
                  <a:pt x="12147" y="13530"/>
                  <a:pt x="12189" y="13517"/>
                  <a:pt x="12231" y="13504"/>
                </a:cubicBezTo>
                <a:cubicBezTo>
                  <a:pt x="12280" y="13489"/>
                  <a:pt x="12327" y="13468"/>
                  <a:pt x="12374" y="13446"/>
                </a:cubicBezTo>
                <a:cubicBezTo>
                  <a:pt x="12391" y="13438"/>
                  <a:pt x="12431" y="13411"/>
                  <a:pt x="12450" y="13410"/>
                </a:cubicBezTo>
                <a:cubicBezTo>
                  <a:pt x="12475" y="13409"/>
                  <a:pt x="12442" y="13423"/>
                  <a:pt x="12441" y="13424"/>
                </a:cubicBezTo>
              </a:path>
              <a:path w="3146" h="2918">
                <a:moveTo>
                  <a:pt x="14574" y="11362"/>
                </a:moveTo>
                <a:cubicBezTo>
                  <a:pt x="14550" y="11337"/>
                  <a:pt x="14527" y="11310"/>
                  <a:pt x="14502" y="11286"/>
                </a:cubicBezTo>
                <a:cubicBezTo>
                  <a:pt x="14467" y="11252"/>
                  <a:pt x="14437" y="11213"/>
                  <a:pt x="14399" y="11183"/>
                </a:cubicBezTo>
                <a:cubicBezTo>
                  <a:pt x="14384" y="11171"/>
                  <a:pt x="14374" y="11168"/>
                  <a:pt x="14359" y="11161"/>
                </a:cubicBezTo>
                <a:cubicBezTo>
                  <a:pt x="14370" y="11191"/>
                  <a:pt x="14380" y="11218"/>
                  <a:pt x="14399" y="11246"/>
                </a:cubicBezTo>
                <a:cubicBezTo>
                  <a:pt x="14445" y="11313"/>
                  <a:pt x="14505" y="11366"/>
                  <a:pt x="14560" y="11425"/>
                </a:cubicBezTo>
                <a:cubicBezTo>
                  <a:pt x="14630" y="11501"/>
                  <a:pt x="14706" y="11569"/>
                  <a:pt x="14780" y="11640"/>
                </a:cubicBezTo>
                <a:cubicBezTo>
                  <a:pt x="14834" y="11692"/>
                  <a:pt x="14892" y="11746"/>
                  <a:pt x="14941" y="11802"/>
                </a:cubicBezTo>
                <a:cubicBezTo>
                  <a:pt x="14955" y="11818"/>
                  <a:pt x="14968" y="11838"/>
                  <a:pt x="14981" y="11855"/>
                </a:cubicBezTo>
                <a:cubicBezTo>
                  <a:pt x="14966" y="11845"/>
                  <a:pt x="14964" y="11844"/>
                  <a:pt x="14950" y="11833"/>
                </a:cubicBezTo>
                <a:cubicBezTo>
                  <a:pt x="14905" y="11798"/>
                  <a:pt x="14866" y="11752"/>
                  <a:pt x="14825" y="11712"/>
                </a:cubicBezTo>
                <a:cubicBezTo>
                  <a:pt x="14763" y="11651"/>
                  <a:pt x="14699" y="11589"/>
                  <a:pt x="14641" y="11524"/>
                </a:cubicBezTo>
                <a:cubicBezTo>
                  <a:pt x="14588" y="11465"/>
                  <a:pt x="14535" y="11406"/>
                  <a:pt x="14484" y="11345"/>
                </a:cubicBezTo>
                <a:cubicBezTo>
                  <a:pt x="14450" y="11305"/>
                  <a:pt x="14418" y="11266"/>
                  <a:pt x="14386" y="11224"/>
                </a:cubicBezTo>
                <a:cubicBezTo>
                  <a:pt x="14374" y="11212"/>
                  <a:pt x="14371" y="11211"/>
                  <a:pt x="14368" y="11201"/>
                </a:cubicBezTo>
                <a:cubicBezTo>
                  <a:pt x="14404" y="11235"/>
                  <a:pt x="14443" y="11266"/>
                  <a:pt x="14480" y="11300"/>
                </a:cubicBezTo>
                <a:cubicBezTo>
                  <a:pt x="14583" y="11393"/>
                  <a:pt x="14690" y="11484"/>
                  <a:pt x="14784" y="11586"/>
                </a:cubicBezTo>
                <a:cubicBezTo>
                  <a:pt x="14805" y="11610"/>
                  <a:pt x="14826" y="11634"/>
                  <a:pt x="14847" y="11658"/>
                </a:cubicBezTo>
              </a:path>
              <a:path w="3146" h="2918">
                <a:moveTo>
                  <a:pt x="11921" y="13298"/>
                </a:moveTo>
                <a:cubicBezTo>
                  <a:pt x="11905" y="13275"/>
                  <a:pt x="11896" y="13250"/>
                  <a:pt x="11881" y="13227"/>
                </a:cubicBezTo>
                <a:cubicBezTo>
                  <a:pt x="11878" y="13224"/>
                  <a:pt x="11875" y="13221"/>
                  <a:pt x="11872" y="13218"/>
                </a:cubicBezTo>
                <a:cubicBezTo>
                  <a:pt x="11871" y="13234"/>
                  <a:pt x="11861" y="13225"/>
                  <a:pt x="11868" y="13240"/>
                </a:cubicBezTo>
                <a:cubicBezTo>
                  <a:pt x="11894" y="13299"/>
                  <a:pt x="11941" y="13355"/>
                  <a:pt x="11980" y="13406"/>
                </a:cubicBezTo>
                <a:cubicBezTo>
                  <a:pt x="12043" y="13489"/>
                  <a:pt x="12108" y="13568"/>
                  <a:pt x="12181" y="13643"/>
                </a:cubicBezTo>
                <a:cubicBezTo>
                  <a:pt x="12271" y="13735"/>
                  <a:pt x="12369" y="13821"/>
                  <a:pt x="12455" y="13917"/>
                </a:cubicBezTo>
                <a:cubicBezTo>
                  <a:pt x="12459" y="13925"/>
                  <a:pt x="12459" y="13927"/>
                  <a:pt x="12464" y="13930"/>
                </a:cubicBezTo>
                <a:cubicBezTo>
                  <a:pt x="12447" y="13917"/>
                  <a:pt x="12428" y="13901"/>
                  <a:pt x="12410" y="13885"/>
                </a:cubicBezTo>
                <a:cubicBezTo>
                  <a:pt x="12358" y="13839"/>
                  <a:pt x="12307" y="13793"/>
                  <a:pt x="12257" y="13746"/>
                </a:cubicBezTo>
                <a:cubicBezTo>
                  <a:pt x="12191" y="13684"/>
                  <a:pt x="12116" y="13631"/>
                  <a:pt x="12051" y="13567"/>
                </a:cubicBezTo>
                <a:cubicBezTo>
                  <a:pt x="11999" y="13516"/>
                  <a:pt x="11942" y="13462"/>
                  <a:pt x="11895" y="13406"/>
                </a:cubicBezTo>
                <a:cubicBezTo>
                  <a:pt x="11872" y="13378"/>
                  <a:pt x="11855" y="13343"/>
                  <a:pt x="11845" y="13316"/>
                </a:cubicBezTo>
                <a:cubicBezTo>
                  <a:pt x="11873" y="13340"/>
                  <a:pt x="11896" y="13364"/>
                  <a:pt x="11921" y="13392"/>
                </a:cubicBezTo>
                <a:cubicBezTo>
                  <a:pt x="11979" y="13458"/>
                  <a:pt x="12045" y="13521"/>
                  <a:pt x="12110" y="13581"/>
                </a:cubicBezTo>
                <a:cubicBezTo>
                  <a:pt x="12193" y="13658"/>
                  <a:pt x="12279" y="13732"/>
                  <a:pt x="12361" y="13809"/>
                </a:cubicBezTo>
                <a:cubicBezTo>
                  <a:pt x="12437" y="13880"/>
                  <a:pt x="12519" y="13947"/>
                  <a:pt x="12589" y="14024"/>
                </a:cubicBezTo>
                <a:cubicBezTo>
                  <a:pt x="12606" y="14043"/>
                  <a:pt x="12613" y="14053"/>
                  <a:pt x="12629" y="14073"/>
                </a:cubicBez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92"/>
          <p:cNvSpPr/>
          <p:nvPr/>
        </p:nvSpPr>
        <p:spPr>
          <a:xfrm>
            <a:off x="4213080" y="3071880"/>
            <a:ext cx="144720" cy="93600"/>
          </a:xfrm>
          <a:custGeom>
            <a:avLst/>
            <a:gdLst/>
            <a:ahLst/>
            <a:rect l="l" t="t" r="r" b="b"/>
            <a:pathLst>
              <a:path w="404" h="256">
                <a:moveTo>
                  <a:pt x="11729" y="8642"/>
                </a:moveTo>
                <a:cubicBezTo>
                  <a:pt x="11726" y="8642"/>
                  <a:pt x="11727" y="8639"/>
                  <a:pt x="11720" y="8642"/>
                </a:cubicBezTo>
                <a:cubicBezTo>
                  <a:pt x="11715" y="8644"/>
                  <a:pt x="11708" y="8643"/>
                  <a:pt x="11706" y="8647"/>
                </a:cubicBezTo>
                <a:cubicBezTo>
                  <a:pt x="11704" y="8651"/>
                  <a:pt x="11702" y="8655"/>
                  <a:pt x="11702" y="8656"/>
                </a:cubicBezTo>
                <a:cubicBezTo>
                  <a:pt x="11702" y="8658"/>
                  <a:pt x="11702" y="8668"/>
                  <a:pt x="11702" y="8669"/>
                </a:cubicBezTo>
                <a:cubicBezTo>
                  <a:pt x="11703" y="8673"/>
                  <a:pt x="11704" y="8684"/>
                  <a:pt x="11706" y="8687"/>
                </a:cubicBezTo>
                <a:cubicBezTo>
                  <a:pt x="11711" y="8696"/>
                  <a:pt x="11722" y="8699"/>
                  <a:pt x="11729" y="8705"/>
                </a:cubicBezTo>
                <a:cubicBezTo>
                  <a:pt x="11740" y="8715"/>
                  <a:pt x="11748" y="8719"/>
                  <a:pt x="11760" y="8728"/>
                </a:cubicBezTo>
                <a:cubicBezTo>
                  <a:pt x="11774" y="8738"/>
                  <a:pt x="11784" y="8743"/>
                  <a:pt x="11800" y="8750"/>
                </a:cubicBezTo>
                <a:cubicBezTo>
                  <a:pt x="11814" y="8756"/>
                  <a:pt x="11827" y="8760"/>
                  <a:pt x="11841" y="8763"/>
                </a:cubicBezTo>
                <a:cubicBezTo>
                  <a:pt x="11856" y="8766"/>
                  <a:pt x="11871" y="8768"/>
                  <a:pt x="11886" y="8763"/>
                </a:cubicBezTo>
                <a:cubicBezTo>
                  <a:pt x="11901" y="8758"/>
                  <a:pt x="11913" y="8752"/>
                  <a:pt x="11926" y="8746"/>
                </a:cubicBezTo>
                <a:cubicBezTo>
                  <a:pt x="11940" y="8739"/>
                  <a:pt x="11956" y="8735"/>
                  <a:pt x="11971" y="8728"/>
                </a:cubicBezTo>
                <a:cubicBezTo>
                  <a:pt x="11983" y="8723"/>
                  <a:pt x="12001" y="8710"/>
                  <a:pt x="12011" y="8701"/>
                </a:cubicBezTo>
                <a:cubicBezTo>
                  <a:pt x="12022" y="8691"/>
                  <a:pt x="12029" y="8680"/>
                  <a:pt x="12038" y="8669"/>
                </a:cubicBezTo>
                <a:cubicBezTo>
                  <a:pt x="12047" y="8658"/>
                  <a:pt x="12053" y="8649"/>
                  <a:pt x="12060" y="8638"/>
                </a:cubicBezTo>
                <a:cubicBezTo>
                  <a:pt x="12063" y="8633"/>
                  <a:pt x="12073" y="8621"/>
                  <a:pt x="12074" y="8620"/>
                </a:cubicBezTo>
                <a:cubicBezTo>
                  <a:pt x="12074" y="8619"/>
                  <a:pt x="12074" y="8617"/>
                  <a:pt x="12074" y="8616"/>
                </a:cubicBezTo>
                <a:cubicBezTo>
                  <a:pt x="12076" y="8621"/>
                  <a:pt x="12081" y="8628"/>
                  <a:pt x="12083" y="8638"/>
                </a:cubicBezTo>
                <a:cubicBezTo>
                  <a:pt x="12085" y="8648"/>
                  <a:pt x="12082" y="8666"/>
                  <a:pt x="12078" y="8674"/>
                </a:cubicBezTo>
                <a:cubicBezTo>
                  <a:pt x="12071" y="8688"/>
                  <a:pt x="12056" y="8701"/>
                  <a:pt x="12047" y="8714"/>
                </a:cubicBezTo>
                <a:cubicBezTo>
                  <a:pt x="12034" y="8732"/>
                  <a:pt x="12026" y="8746"/>
                  <a:pt x="12007" y="8759"/>
                </a:cubicBezTo>
                <a:cubicBezTo>
                  <a:pt x="11990" y="8770"/>
                  <a:pt x="11976" y="8779"/>
                  <a:pt x="11957" y="8786"/>
                </a:cubicBezTo>
                <a:cubicBezTo>
                  <a:pt x="11940" y="8792"/>
                  <a:pt x="11921" y="8790"/>
                  <a:pt x="11904" y="8786"/>
                </a:cubicBezTo>
                <a:cubicBezTo>
                  <a:pt x="11884" y="8781"/>
                  <a:pt x="11871" y="8765"/>
                  <a:pt x="11854" y="8755"/>
                </a:cubicBezTo>
                <a:cubicBezTo>
                  <a:pt x="11839" y="8747"/>
                  <a:pt x="11828" y="8738"/>
                  <a:pt x="11814" y="8728"/>
                </a:cubicBezTo>
                <a:cubicBezTo>
                  <a:pt x="11803" y="8720"/>
                  <a:pt x="11790" y="8716"/>
                  <a:pt x="11778" y="8710"/>
                </a:cubicBezTo>
                <a:cubicBezTo>
                  <a:pt x="11767" y="8704"/>
                  <a:pt x="11759" y="8700"/>
                  <a:pt x="11747" y="8696"/>
                </a:cubicBezTo>
                <a:cubicBezTo>
                  <a:pt x="11739" y="8693"/>
                  <a:pt x="11738" y="8691"/>
                  <a:pt x="11733" y="8692"/>
                </a:cubicBezTo>
                <a:cubicBezTo>
                  <a:pt x="11743" y="8700"/>
                  <a:pt x="11745" y="8701"/>
                  <a:pt x="11756" y="8705"/>
                </a:cubicBezTo>
                <a:cubicBezTo>
                  <a:pt x="11776" y="8713"/>
                  <a:pt x="11793" y="8715"/>
                  <a:pt x="11814" y="8719"/>
                </a:cubicBezTo>
                <a:cubicBezTo>
                  <a:pt x="11839" y="8724"/>
                  <a:pt x="11865" y="8723"/>
                  <a:pt x="11890" y="8719"/>
                </a:cubicBezTo>
                <a:cubicBezTo>
                  <a:pt x="11929" y="8713"/>
                  <a:pt x="11965" y="8702"/>
                  <a:pt x="12002" y="8687"/>
                </a:cubicBezTo>
                <a:cubicBezTo>
                  <a:pt x="12027" y="8677"/>
                  <a:pt x="12054" y="8671"/>
                  <a:pt x="12074" y="8651"/>
                </a:cubicBezTo>
                <a:cubicBezTo>
                  <a:pt x="12087" y="8638"/>
                  <a:pt x="12102" y="8611"/>
                  <a:pt x="12105" y="8593"/>
                </a:cubicBezTo>
                <a:cubicBezTo>
                  <a:pt x="12108" y="8577"/>
                  <a:pt x="12099" y="8562"/>
                  <a:pt x="12092" y="8548"/>
                </a:cubicBezTo>
                <a:cubicBezTo>
                  <a:pt x="12086" y="8535"/>
                  <a:pt x="12078" y="8534"/>
                  <a:pt x="12065" y="8535"/>
                </a:cubicBezTo>
                <a:cubicBezTo>
                  <a:pt x="12053" y="8536"/>
                  <a:pt x="12045" y="8542"/>
                  <a:pt x="12038" y="8553"/>
                </a:cubicBezTo>
                <a:cubicBezTo>
                  <a:pt x="12032" y="8562"/>
                  <a:pt x="12026" y="8581"/>
                  <a:pt x="12024" y="8593"/>
                </a:cubicBezTo>
                <a:cubicBezTo>
                  <a:pt x="12021" y="8611"/>
                  <a:pt x="12021" y="8629"/>
                  <a:pt x="12016" y="8647"/>
                </a:cubicBezTo>
                <a:cubicBezTo>
                  <a:pt x="12010" y="8670"/>
                  <a:pt x="12003" y="8694"/>
                  <a:pt x="11989" y="8714"/>
                </a:cubicBezTo>
                <a:cubicBezTo>
                  <a:pt x="11977" y="8731"/>
                  <a:pt x="11961" y="8746"/>
                  <a:pt x="11944" y="8759"/>
                </a:cubicBezTo>
                <a:cubicBezTo>
                  <a:pt x="11930" y="8770"/>
                  <a:pt x="11904" y="8778"/>
                  <a:pt x="11886" y="8781"/>
                </a:cubicBezTo>
                <a:cubicBezTo>
                  <a:pt x="11869" y="8783"/>
                  <a:pt x="11852" y="8781"/>
                  <a:pt x="11836" y="8777"/>
                </a:cubicBezTo>
                <a:cubicBezTo>
                  <a:pt x="11823" y="8774"/>
                  <a:pt x="11803" y="8762"/>
                  <a:pt x="11792" y="8755"/>
                </a:cubicBezTo>
                <a:cubicBezTo>
                  <a:pt x="11781" y="8748"/>
                  <a:pt x="11776" y="8738"/>
                  <a:pt x="11765" y="8732"/>
                </a:cubicBezTo>
                <a:cubicBezTo>
                  <a:pt x="11759" y="8729"/>
                  <a:pt x="11762" y="8731"/>
                  <a:pt x="11756" y="8728"/>
                </a:cubicBezTo>
                <a:cubicBezTo>
                  <a:pt x="11764" y="8736"/>
                  <a:pt x="11771" y="8741"/>
                  <a:pt x="11778" y="8746"/>
                </a:cubicBezTo>
                <a:cubicBezTo>
                  <a:pt x="11791" y="8756"/>
                  <a:pt x="11806" y="8765"/>
                  <a:pt x="11823" y="8768"/>
                </a:cubicBezTo>
                <a:cubicBezTo>
                  <a:pt x="11844" y="8771"/>
                  <a:pt x="11860" y="8770"/>
                  <a:pt x="11881" y="8768"/>
                </a:cubicBezTo>
                <a:cubicBezTo>
                  <a:pt x="11905" y="8766"/>
                  <a:pt x="11922" y="8759"/>
                  <a:pt x="11944" y="8750"/>
                </a:cubicBezTo>
                <a:cubicBezTo>
                  <a:pt x="11969" y="8740"/>
                  <a:pt x="11991" y="8729"/>
                  <a:pt x="12011" y="8710"/>
                </a:cubicBezTo>
                <a:cubicBezTo>
                  <a:pt x="12023" y="8698"/>
                  <a:pt x="12034" y="8683"/>
                  <a:pt x="12042" y="8669"/>
                </a:cubicBezTo>
                <a:cubicBezTo>
                  <a:pt x="12047" y="8661"/>
                  <a:pt x="12055" y="8646"/>
                  <a:pt x="12056" y="8638"/>
                </a:cubicBezTo>
                <a:cubicBezTo>
                  <a:pt x="12058" y="8624"/>
                  <a:pt x="12056" y="8613"/>
                  <a:pt x="12051" y="8602"/>
                </a:cubicBezTo>
                <a:cubicBezTo>
                  <a:pt x="12051" y="8598"/>
                  <a:pt x="12051" y="8597"/>
                  <a:pt x="12047" y="8598"/>
                </a:cubicBezTo>
                <a:cubicBezTo>
                  <a:pt x="12047" y="8604"/>
                  <a:pt x="12047" y="8601"/>
                  <a:pt x="12047" y="8607"/>
                </a:cubicBezTo>
                <a:cubicBezTo>
                  <a:pt x="12047" y="8619"/>
                  <a:pt x="12043" y="8623"/>
                  <a:pt x="12042" y="8629"/>
                </a:cubicBezTo>
                <a:cubicBezTo>
                  <a:pt x="12042" y="8632"/>
                  <a:pt x="12042" y="8635"/>
                  <a:pt x="12042" y="8638"/>
                </a:cubicBezTo>
              </a:path>
            </a:pathLst>
          </a:custGeom>
          <a:noFill/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93"/>
          <p:cNvSpPr/>
          <p:nvPr/>
        </p:nvSpPr>
        <p:spPr>
          <a:xfrm>
            <a:off x="4494240" y="3646440"/>
            <a:ext cx="63360" cy="152280"/>
          </a:xfrm>
          <a:custGeom>
            <a:avLst/>
            <a:gdLst/>
            <a:ahLst/>
            <a:rect l="l" t="t" r="r" b="b"/>
            <a:pathLst>
              <a:path w="176" h="422">
                <a:moveTo>
                  <a:pt x="12495" y="10202"/>
                </a:moveTo>
                <a:cubicBezTo>
                  <a:pt x="12490" y="10195"/>
                  <a:pt x="12490" y="10198"/>
                  <a:pt x="12490" y="10197"/>
                </a:cubicBezTo>
                <a:cubicBezTo>
                  <a:pt x="12492" y="10193"/>
                  <a:pt x="12494" y="10189"/>
                  <a:pt x="12499" y="10188"/>
                </a:cubicBezTo>
                <a:cubicBezTo>
                  <a:pt x="12507" y="10186"/>
                  <a:pt x="12512" y="10183"/>
                  <a:pt x="12522" y="10184"/>
                </a:cubicBezTo>
                <a:cubicBezTo>
                  <a:pt x="12530" y="10185"/>
                  <a:pt x="12541" y="10191"/>
                  <a:pt x="12549" y="10197"/>
                </a:cubicBezTo>
                <a:cubicBezTo>
                  <a:pt x="12561" y="10206"/>
                  <a:pt x="12574" y="10218"/>
                  <a:pt x="12585" y="10229"/>
                </a:cubicBezTo>
                <a:cubicBezTo>
                  <a:pt x="12597" y="10241"/>
                  <a:pt x="12606" y="10262"/>
                  <a:pt x="12611" y="10278"/>
                </a:cubicBezTo>
                <a:cubicBezTo>
                  <a:pt x="12619" y="10303"/>
                  <a:pt x="12624" y="10328"/>
                  <a:pt x="12625" y="10354"/>
                </a:cubicBezTo>
                <a:cubicBezTo>
                  <a:pt x="12626" y="10379"/>
                  <a:pt x="12625" y="10406"/>
                  <a:pt x="12616" y="10430"/>
                </a:cubicBezTo>
                <a:cubicBezTo>
                  <a:pt x="12608" y="10450"/>
                  <a:pt x="12599" y="10470"/>
                  <a:pt x="12589" y="10489"/>
                </a:cubicBezTo>
                <a:cubicBezTo>
                  <a:pt x="12581" y="10504"/>
                  <a:pt x="12575" y="10516"/>
                  <a:pt x="12567" y="10529"/>
                </a:cubicBezTo>
                <a:cubicBezTo>
                  <a:pt x="12558" y="10542"/>
                  <a:pt x="12564" y="10535"/>
                  <a:pt x="12562" y="10533"/>
                </a:cubicBezTo>
                <a:cubicBezTo>
                  <a:pt x="12565" y="10521"/>
                  <a:pt x="12571" y="10514"/>
                  <a:pt x="12576" y="10502"/>
                </a:cubicBezTo>
                <a:cubicBezTo>
                  <a:pt x="12585" y="10478"/>
                  <a:pt x="12599" y="10455"/>
                  <a:pt x="12607" y="10430"/>
                </a:cubicBezTo>
                <a:cubicBezTo>
                  <a:pt x="12615" y="10404"/>
                  <a:pt x="12618" y="10376"/>
                  <a:pt x="12620" y="10350"/>
                </a:cubicBezTo>
                <a:cubicBezTo>
                  <a:pt x="12622" y="10323"/>
                  <a:pt x="12620" y="10292"/>
                  <a:pt x="12616" y="10265"/>
                </a:cubicBezTo>
                <a:cubicBezTo>
                  <a:pt x="12613" y="10247"/>
                  <a:pt x="12607" y="10222"/>
                  <a:pt x="12598" y="10206"/>
                </a:cubicBezTo>
                <a:cubicBezTo>
                  <a:pt x="12591" y="10193"/>
                  <a:pt x="12583" y="10180"/>
                  <a:pt x="12571" y="10170"/>
                </a:cubicBezTo>
                <a:cubicBezTo>
                  <a:pt x="12563" y="10164"/>
                  <a:pt x="12558" y="10163"/>
                  <a:pt x="12549" y="10162"/>
                </a:cubicBezTo>
                <a:cubicBezTo>
                  <a:pt x="12547" y="10162"/>
                  <a:pt x="12546" y="10162"/>
                  <a:pt x="12544" y="10162"/>
                </a:cubicBezTo>
                <a:cubicBezTo>
                  <a:pt x="12543" y="10168"/>
                  <a:pt x="12538" y="10166"/>
                  <a:pt x="12540" y="10175"/>
                </a:cubicBezTo>
                <a:cubicBezTo>
                  <a:pt x="12541" y="10181"/>
                  <a:pt x="12550" y="10190"/>
                  <a:pt x="12553" y="10193"/>
                </a:cubicBezTo>
                <a:cubicBezTo>
                  <a:pt x="12563" y="10204"/>
                  <a:pt x="12577" y="10212"/>
                  <a:pt x="12585" y="10224"/>
                </a:cubicBezTo>
                <a:cubicBezTo>
                  <a:pt x="12597" y="10240"/>
                  <a:pt x="12610" y="10256"/>
                  <a:pt x="12620" y="10274"/>
                </a:cubicBezTo>
                <a:cubicBezTo>
                  <a:pt x="12632" y="10295"/>
                  <a:pt x="12640" y="10313"/>
                  <a:pt x="12647" y="10336"/>
                </a:cubicBezTo>
                <a:cubicBezTo>
                  <a:pt x="12655" y="10362"/>
                  <a:pt x="12653" y="10385"/>
                  <a:pt x="12652" y="10412"/>
                </a:cubicBezTo>
                <a:cubicBezTo>
                  <a:pt x="12651" y="10439"/>
                  <a:pt x="12648" y="10468"/>
                  <a:pt x="12638" y="10493"/>
                </a:cubicBezTo>
                <a:cubicBezTo>
                  <a:pt x="12633" y="10506"/>
                  <a:pt x="12619" y="10529"/>
                  <a:pt x="12607" y="10538"/>
                </a:cubicBezTo>
                <a:cubicBezTo>
                  <a:pt x="12596" y="10546"/>
                  <a:pt x="12593" y="10539"/>
                  <a:pt x="12585" y="10538"/>
                </a:cubicBezTo>
                <a:cubicBezTo>
                  <a:pt x="12580" y="10537"/>
                  <a:pt x="12571" y="10537"/>
                  <a:pt x="12571" y="10529"/>
                </a:cubicBezTo>
                <a:cubicBezTo>
                  <a:pt x="12571" y="10522"/>
                  <a:pt x="12581" y="10522"/>
                  <a:pt x="12585" y="10516"/>
                </a:cubicBezTo>
                <a:cubicBezTo>
                  <a:pt x="12594" y="10504"/>
                  <a:pt x="12603" y="10485"/>
                  <a:pt x="12607" y="10471"/>
                </a:cubicBezTo>
                <a:cubicBezTo>
                  <a:pt x="12615" y="10444"/>
                  <a:pt x="12621" y="10418"/>
                  <a:pt x="12625" y="10390"/>
                </a:cubicBezTo>
                <a:cubicBezTo>
                  <a:pt x="12629" y="10357"/>
                  <a:pt x="12627" y="10329"/>
                  <a:pt x="12625" y="10296"/>
                </a:cubicBezTo>
                <a:cubicBezTo>
                  <a:pt x="12624" y="10275"/>
                  <a:pt x="12617" y="10249"/>
                  <a:pt x="12607" y="10229"/>
                </a:cubicBezTo>
                <a:cubicBezTo>
                  <a:pt x="12600" y="10215"/>
                  <a:pt x="12584" y="10197"/>
                  <a:pt x="12571" y="10188"/>
                </a:cubicBezTo>
                <a:cubicBezTo>
                  <a:pt x="12560" y="10181"/>
                  <a:pt x="12556" y="10180"/>
                  <a:pt x="12544" y="10179"/>
                </a:cubicBezTo>
                <a:cubicBezTo>
                  <a:pt x="12543" y="10179"/>
                  <a:pt x="12541" y="10179"/>
                  <a:pt x="12540" y="10179"/>
                </a:cubicBezTo>
                <a:cubicBezTo>
                  <a:pt x="12536" y="10183"/>
                  <a:pt x="12527" y="10184"/>
                  <a:pt x="12535" y="10193"/>
                </a:cubicBezTo>
                <a:cubicBezTo>
                  <a:pt x="12539" y="10197"/>
                  <a:pt x="12554" y="10201"/>
                  <a:pt x="12558" y="10206"/>
                </a:cubicBezTo>
                <a:cubicBezTo>
                  <a:pt x="12567" y="10217"/>
                  <a:pt x="12579" y="10227"/>
                  <a:pt x="12589" y="10238"/>
                </a:cubicBezTo>
                <a:cubicBezTo>
                  <a:pt x="12601" y="10251"/>
                  <a:pt x="12616" y="10271"/>
                  <a:pt x="12625" y="10287"/>
                </a:cubicBezTo>
                <a:cubicBezTo>
                  <a:pt x="12638" y="10309"/>
                  <a:pt x="12641" y="10335"/>
                  <a:pt x="12647" y="10359"/>
                </a:cubicBezTo>
                <a:cubicBezTo>
                  <a:pt x="12654" y="10386"/>
                  <a:pt x="12652" y="10412"/>
                  <a:pt x="12652" y="10439"/>
                </a:cubicBezTo>
                <a:cubicBezTo>
                  <a:pt x="12652" y="10465"/>
                  <a:pt x="12643" y="10489"/>
                  <a:pt x="12629" y="10511"/>
                </a:cubicBezTo>
                <a:cubicBezTo>
                  <a:pt x="12621" y="10524"/>
                  <a:pt x="12608" y="10542"/>
                  <a:pt x="12593" y="10547"/>
                </a:cubicBezTo>
                <a:cubicBezTo>
                  <a:pt x="12587" y="10549"/>
                  <a:pt x="12578" y="10549"/>
                  <a:pt x="12571" y="10551"/>
                </a:cubicBezTo>
                <a:cubicBezTo>
                  <a:pt x="12569" y="10542"/>
                  <a:pt x="12564" y="10543"/>
                  <a:pt x="12571" y="10533"/>
                </a:cubicBezTo>
                <a:cubicBezTo>
                  <a:pt x="12584" y="10514"/>
                  <a:pt x="12600" y="10494"/>
                  <a:pt x="12607" y="10471"/>
                </a:cubicBezTo>
                <a:cubicBezTo>
                  <a:pt x="12617" y="10438"/>
                  <a:pt x="12623" y="10406"/>
                  <a:pt x="12629" y="10372"/>
                </a:cubicBezTo>
                <a:cubicBezTo>
                  <a:pt x="12635" y="10341"/>
                  <a:pt x="12634" y="10310"/>
                  <a:pt x="12634" y="10278"/>
                </a:cubicBezTo>
                <a:cubicBezTo>
                  <a:pt x="12634" y="10250"/>
                  <a:pt x="12627" y="10235"/>
                  <a:pt x="12616" y="10211"/>
                </a:cubicBezTo>
                <a:cubicBezTo>
                  <a:pt x="12609" y="10195"/>
                  <a:pt x="12600" y="10177"/>
                  <a:pt x="12585" y="10166"/>
                </a:cubicBezTo>
                <a:cubicBezTo>
                  <a:pt x="12576" y="10159"/>
                  <a:pt x="12562" y="10153"/>
                  <a:pt x="12553" y="10148"/>
                </a:cubicBezTo>
                <a:cubicBezTo>
                  <a:pt x="12550" y="10147"/>
                  <a:pt x="12537" y="10137"/>
                  <a:pt x="12544" y="10144"/>
                </a:cubicBezTo>
                <a:cubicBezTo>
                  <a:pt x="12547" y="10147"/>
                  <a:pt x="12553" y="10152"/>
                  <a:pt x="12558" y="10157"/>
                </a:cubicBezTo>
                <a:cubicBezTo>
                  <a:pt x="12572" y="10170"/>
                  <a:pt x="12590" y="10183"/>
                  <a:pt x="12602" y="10197"/>
                </a:cubicBezTo>
                <a:cubicBezTo>
                  <a:pt x="12621" y="10219"/>
                  <a:pt x="12647" y="10262"/>
                  <a:pt x="12652" y="10291"/>
                </a:cubicBezTo>
                <a:cubicBezTo>
                  <a:pt x="12656" y="10317"/>
                  <a:pt x="12656" y="10346"/>
                  <a:pt x="12656" y="10372"/>
                </a:cubicBezTo>
                <a:cubicBezTo>
                  <a:pt x="12656" y="10403"/>
                  <a:pt x="12650" y="10432"/>
                  <a:pt x="12643" y="10462"/>
                </a:cubicBezTo>
                <a:cubicBezTo>
                  <a:pt x="12638" y="10485"/>
                  <a:pt x="12630" y="10500"/>
                  <a:pt x="12620" y="10520"/>
                </a:cubicBezTo>
                <a:cubicBezTo>
                  <a:pt x="12619" y="10523"/>
                  <a:pt x="12617" y="10526"/>
                  <a:pt x="12616" y="10529"/>
                </a:cubicBezTo>
                <a:cubicBezTo>
                  <a:pt x="12609" y="10539"/>
                  <a:pt x="12602" y="10548"/>
                  <a:pt x="12611" y="10529"/>
                </a:cubicBezTo>
                <a:cubicBezTo>
                  <a:pt x="12624" y="10500"/>
                  <a:pt x="12635" y="10470"/>
                  <a:pt x="12643" y="10439"/>
                </a:cubicBezTo>
                <a:cubicBezTo>
                  <a:pt x="12651" y="10409"/>
                  <a:pt x="12659" y="10375"/>
                  <a:pt x="12661" y="10345"/>
                </a:cubicBezTo>
                <a:cubicBezTo>
                  <a:pt x="12664" y="10314"/>
                  <a:pt x="12662" y="10281"/>
                  <a:pt x="12656" y="10251"/>
                </a:cubicBezTo>
                <a:cubicBezTo>
                  <a:pt x="12651" y="10228"/>
                  <a:pt x="12644" y="10200"/>
                  <a:pt x="12634" y="10179"/>
                </a:cubicBezTo>
                <a:cubicBezTo>
                  <a:pt x="12627" y="10165"/>
                  <a:pt x="12613" y="10150"/>
                  <a:pt x="12602" y="10139"/>
                </a:cubicBezTo>
                <a:cubicBezTo>
                  <a:pt x="12598" y="10135"/>
                  <a:pt x="12593" y="10133"/>
                  <a:pt x="12589" y="10130"/>
                </a:cubicBezTo>
                <a:cubicBezTo>
                  <a:pt x="12586" y="10141"/>
                  <a:pt x="12585" y="10143"/>
                  <a:pt x="12585" y="10157"/>
                </a:cubicBezTo>
                <a:cubicBezTo>
                  <a:pt x="12585" y="10172"/>
                  <a:pt x="12602" y="10198"/>
                  <a:pt x="12611" y="10211"/>
                </a:cubicBezTo>
                <a:cubicBezTo>
                  <a:pt x="12616" y="10217"/>
                  <a:pt x="12620" y="10223"/>
                  <a:pt x="12625" y="10229"/>
                </a:cubicBezTo>
              </a:path>
            </a:pathLst>
          </a:custGeom>
          <a:noFill/>
          <a:ln cap="rnd" w="1260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Slit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 Unicode MS"/>
              </a:rPr>
              <a:t>dsin</a:t>
            </a:r>
            <a:r>
              <a:rPr b="1" lang="en-US" sz="3200" spc="-1" strike="noStrike">
                <a:solidFill>
                  <a:srgbClr val="262673"/>
                </a:solidFill>
                <a:latin typeface="Symbol"/>
                <a:ea typeface="Symbol"/>
              </a:rPr>
              <a:t></a:t>
            </a:r>
            <a:r>
              <a:rPr b="1" lang="en-US" sz="3200" spc="-1" strike="noStrike">
                <a:solidFill>
                  <a:srgbClr val="262673"/>
                </a:solidFill>
                <a:latin typeface="Arial Unicode MS"/>
              </a:rPr>
              <a:t>n</a:t>
            </a:r>
            <a:r>
              <a:rPr b="1" lang="en-US" sz="3200" spc="-1" strike="noStrike">
                <a:solidFill>
                  <a:srgbClr val="262673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262673"/>
                </a:solidFill>
                <a:latin typeface="Symbol"/>
                <a:ea typeface="Symbol"/>
              </a:rPr>
              <a:t></a:t>
            </a:r>
            <a:r>
              <a:rPr b="1" lang="en-US" sz="3200" spc="-1" strike="noStrike" u="sng">
                <a:solidFill>
                  <a:srgbClr val="262673"/>
                </a:solidFill>
                <a:uFillTx/>
                <a:latin typeface="Arial Unicode MS"/>
              </a:rPr>
              <a:t>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structive (brights)   n=0,1,2,3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structive   (darks)     n=1/2, 3/2, 5/2,….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o find maximum # of fringes s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o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for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wave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slit dis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ght’s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nature (electromagnetic w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 nature (bundles of energy called pho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lits are 0.05 m apart. A las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633nm is incident to the sl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een is placed 2m from the sl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alculate the position of the first and second bright fri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What is the maximum number of destructive interference spots there can be on either side of the central maxi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des.memphis.edu/lurbano/vpython/matter_interactions/spectrum/spectrum_02.jpg"/>
          <p:cNvPicPr/>
          <p:nvPr/>
        </p:nvPicPr>
        <p:blipFill>
          <a:blip r:embed="rId1"/>
          <a:stretch/>
        </p:blipFill>
        <p:spPr>
          <a:xfrm>
            <a:off x="950760" y="1306440"/>
            <a:ext cx="7050240" cy="53244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52280" y="640080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es.memphis.edu/lurbano/vpython/matter_interactions/spectrum/spectrum_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equally spaced parallel sl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are same as for double slit interfer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lculate the d (slit separation) from the grating density, N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62673"/>
                </a:solidFill>
                <a:latin typeface="Arial Unicode MS"/>
              </a:rPr>
              <a:t>d=1/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, N slits per unit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 Unicode MS"/>
              </a:rPr>
              <a:t>dsin</a:t>
            </a:r>
            <a:r>
              <a:rPr b="1" lang="en-US" sz="2800" spc="-1" strike="noStrike">
                <a:solidFill>
                  <a:srgbClr val="262673"/>
                </a:solidFill>
                <a:latin typeface="Symbol"/>
                <a:ea typeface="Symbol"/>
              </a:rPr>
              <a:t></a:t>
            </a:r>
            <a:r>
              <a:rPr b="1" lang="en-US" sz="2800" spc="-1" strike="noStrike">
                <a:solidFill>
                  <a:srgbClr val="262673"/>
                </a:solidFill>
                <a:latin typeface="Arial Unicode MS"/>
              </a:rPr>
              <a:t>n</a:t>
            </a:r>
            <a:r>
              <a:rPr b="1" lang="en-US" sz="2800" spc="-1" strike="noStrike">
                <a:solidFill>
                  <a:srgbClr val="262673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262673"/>
                </a:solidFill>
                <a:latin typeface="Symbol"/>
                <a:ea typeface="Symbol"/>
              </a:rPr>
              <a:t></a:t>
            </a: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 Unicode MS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structive (brights)   n=0,1,2,3,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structive   (darks)     n=1/2, 3/2, 5/2,…..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on laser of wavelength 633nm is 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diffraction grating of 3000lines/cm. Find the angle where the first brigh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int: slit separation d is inverse of grating den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bends as it passes an obsta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wave-diffraction"/>
          <p:cNvPicPr/>
          <p:nvPr/>
        </p:nvPicPr>
        <p:blipFill>
          <a:blip r:embed="rId1"/>
          <a:stretch/>
        </p:blipFill>
        <p:spPr>
          <a:xfrm>
            <a:off x="1219320" y="2286000"/>
            <a:ext cx="65530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Huygens2"/>
          <p:cNvPicPr/>
          <p:nvPr/>
        </p:nvPicPr>
        <p:blipFill>
          <a:blip r:embed="rId1"/>
          <a:stretch/>
        </p:blipFill>
        <p:spPr>
          <a:xfrm>
            <a:off x="2827440" y="3124080"/>
            <a:ext cx="30510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through a Narrow Sl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 of the slit acts as a point source that interferes with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ed on Huygens Princ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tern of Diffraction of Light through a Narrow Sl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197_diffgraph"/>
          <p:cNvPicPr/>
          <p:nvPr/>
        </p:nvPicPr>
        <p:blipFill>
          <a:blip r:embed="rId1"/>
          <a:stretch/>
        </p:blipFill>
        <p:spPr>
          <a:xfrm>
            <a:off x="1523880" y="1260360"/>
            <a:ext cx="6477120" cy="5369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581280" y="4267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38080" y="3429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257800" y="3048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sity of the Diffraction Interferenc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“Interference of Ligh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3.interscience.wiley.com:8100/legacy/college/halliday/0471320005/simulations6e/index.htm?newwindow=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 from Narrow Sl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i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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 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: is the width of the s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ve (dark fringes): m=0,1,2,3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the wid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x change with the wave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st- Separate Theories of Either Wave or Particl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rpuscular theory of New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67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corpuscles have mass and travel at extremely high speeds in straight 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uyge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68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ts-each point on a wavefront acts as a source for the next wavefr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 around a Penny and Poison 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197_diffpenney"/>
          <p:cNvPicPr/>
          <p:nvPr/>
        </p:nvPicPr>
        <p:blipFill>
          <a:blip r:embed="rId1"/>
          <a:stretch/>
        </p:blipFill>
        <p:spPr>
          <a:xfrm>
            <a:off x="2286000" y="1519200"/>
            <a:ext cx="4954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iffractionfigure2"/>
          <p:cNvPicPr/>
          <p:nvPr/>
        </p:nvPicPr>
        <p:blipFill>
          <a:blip r:embed="rId1"/>
          <a:stretch/>
        </p:blipFill>
        <p:spPr>
          <a:xfrm>
            <a:off x="952560" y="1192320"/>
            <a:ext cx="72007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was it difficult to prove the wave part of the nature of ligh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s of Wave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homas Young's Double Slit 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8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ght (constructive) and dark (destructive)             fringes seen on sc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hin Film Interferenc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Poisson/Arago Spot (18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inges seen within and around a small obstacle or through a narrow op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Light2"/>
          <p:cNvPicPr/>
          <p:nvPr/>
        </p:nvPicPr>
        <p:blipFill>
          <a:blip r:embed="rId1"/>
          <a:stretch/>
        </p:blipFill>
        <p:spPr>
          <a:xfrm>
            <a:off x="6095880" y="2590920"/>
            <a:ext cx="28162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Particle Natu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bert Einstein 1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is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n is a quantum or packet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physweb.bgu.ac.il/COURSES/PHYSICS3_ChemMatr/index_files/Photoelectric_effect.png"/>
          <p:cNvPicPr/>
          <p:nvPr/>
        </p:nvPicPr>
        <p:blipFill>
          <a:blip r:embed="rId1"/>
          <a:stretch/>
        </p:blipFill>
        <p:spPr>
          <a:xfrm>
            <a:off x="4724280" y="1600200"/>
            <a:ext cx="4114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inrich Hert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rst observ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electric 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188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tein explained it in 1905 and won the Nobel prize for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Young’s Double Slit Interferenc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5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ed an interferenc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the wavelength of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sciences.univ-nantes.fr/physique/perso/charrier/tp/hist/young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38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649"/>
                </a:solidFill>
                <a:latin typeface="Arial"/>
              </a:rPr>
              <a:t>Two Waves Interf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bugman123.com/Physics/Interference.gif"/>
          <p:cNvPicPr/>
          <p:nvPr/>
        </p:nvPicPr>
        <p:blipFill>
          <a:blip r:embed="rId1"/>
          <a:stretch/>
        </p:blipFill>
        <p:spPr>
          <a:xfrm>
            <a:off x="1143000" y="1143000"/>
            <a:ext cx="6705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ni</dc:creator>
  <dc:description/>
  <dc:language>en-US</dc:language>
  <cp:lastModifiedBy>ASUS P5PE-VM</cp:lastModifiedBy>
  <dcterms:modified xsi:type="dcterms:W3CDTF">2011-02-08T02:48:5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